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7AA4-5549-454A-A579-A54EFA03CC75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99D7-30E5-4BD7-8BE1-E8B386231AE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D42B-F662-4568-B5A6-48FCAF58FA98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3E41-DF6F-49AE-92B4-E1A52B691D12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3AA7-CDCA-4270-A20A-265EC5BE6C61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6CEE-E78C-4804-90EF-9270E3DC33D1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FF69-CE20-41E8-9870-EC84ED2D8640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C596-8FEA-4CEA-93EF-2B52CB7FA3E6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E73E-2374-46E0-A29A-8874D18FC087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E9FF-5690-48A4-A97B-F6BB9D83B93C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6FD5-4783-4222-94C6-F68FECD0FF71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D9EC-363B-4F7F-B2BC-EB390E586C80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17B2-2EBC-455B-9516-6D316E5393DF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CF17-7EA5-45BF-AB34-3180ABBA7E3D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0B4A-920C-4979-B3BC-ED4991CA75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B0A6-36A4-438F-8D07-E563DFBB923C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D4ED-680B-46E1-B92B-3296BB265C81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5957-C4FE-443E-B0DD-F060469900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8B52-E8FB-4EF2-8B8B-234C52BA35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1B88-5316-4698-9AAC-73514A6279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9FFC-79B5-4C85-8BE1-F6DED89CE8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B12C-2CB1-41E5-84E7-A1D9508793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31C9-7536-4D61-B7A0-54546E38C907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9E49-094B-446A-9EE7-EE2CDE3C324C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F45E-3C83-4A84-B139-1663E46D6E3E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4697-1250-4CAD-A1B8-45BF3F18DB2F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6F24-1521-4EFE-8A54-AC867958B9F4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246B-2428-4CE2-A0C5-62F1F0B972D8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0C29-EEDB-4D48-98BF-8524689BDCA6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9185-A670-448D-85A6-9F965543A170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3759-4A7A-47F6-89DF-399A0FC291E1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FD47-2C33-4944-B8D5-3D0A31821169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463C-4F81-474D-93FA-68B2D2577A63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1847-7AF5-4EC1-8B12-2D5546E9469E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A823-DF2A-4BDA-BE54-375CA60316B3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C7DE-ABE8-4747-9678-CEBA5115545F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88AC-60D5-4BFF-8245-CA4C6D94CB22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2E90-D50C-4CC7-BC11-D3DBCBE23DE7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D558-5B44-4C4F-88D3-244F19CA26F8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514B-49C5-40BB-977C-61E7FFD8BAE1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6C7D-1D77-4E16-9754-3F793FB9DAAF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6C75-81D6-4721-91E8-E0E01752D468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CBE7-8F8A-47A9-9A93-D9622A442404}" type="slidenum">
              <a:rPr b="0" lang="en-N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A83D-55D6-4BFE-9B7F-E9DBB3A42CEB}" type="slidenum">
              <a:rPr b="0" lang="en-N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3E53-B85C-4694-B3FA-DB017F8BE722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AAE9-A07F-4642-9D17-2B1CF02B099E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926C-DCEC-460E-8258-1ECE1F43188B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B8B3-16A7-4344-A219-30F8EC85472B}" type="slidenum">
              <a:rPr b="0" lang="en-N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A94B-8C32-4A3C-B696-FD316570340E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EBA4-3619-418B-B861-8783D310A71F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C2B4-85DC-4C76-A4C6-33564F23C410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6F1B-BACE-4CD3-ACF4-3E2D1DF6B9E7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234F-44A4-4CBB-9FB4-8549FB4D302F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6C22-E67F-43E8-971D-6721E3CF029A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8C6C-DC9F-46A3-AFF7-8BA9C584056F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18E2-FCCD-40F6-94E0-977285CFFECF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5DEB-4D5C-48CD-B0A7-27E2424A5C7D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956C-E916-46A5-B484-A668E5F87B74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9F87-CE8D-4797-A5B7-DBF4AD0ADDB1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9D65-1D0B-4741-A7B6-AEDE9AF6882B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6E97-CF47-4C9F-A173-075F7A66396B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9852-5DC7-4F23-8602-574DBB1F98C5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6BC1-A278-4CC6-8DA5-DD3F110DC31C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58EC-8141-42F6-86E9-5903BA0D7EDA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6AD3-A66D-4369-8982-98CA4925CA37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531A-F775-4CEC-BCA2-441CE3425A6D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2B03-C1EA-47DD-BC0C-A5E68D75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2A69-1A03-42A4-BE3A-32369DBC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1658-F746-4E46-BF9F-AC64CC60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01A4-C3BC-464C-9EB3-52C10273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0786-4E77-4697-90FC-743A2BEE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9F52-FCF8-43B0-AA79-45275BB7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CBD2-6864-409B-A2F3-E5CEEB0C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81B6-D1EF-4F57-860E-BCD3EF63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7541-F000-4E90-9B5B-643EA12B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7144-AECA-4147-B45F-70D66F08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69BC-6D6B-460E-8D41-8D3D1950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D16-0505-4D76-B9E4-C7C471FA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4968-E1F3-4DDD-9C46-E96E6AC1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CC67-0A67-4EA6-B95B-82EF46E2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0870-4064-409F-B89D-579F0DBB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5595-42A1-4F6B-834F-89DD1B0A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A132-88A4-490B-933D-76E7DE24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56DB-6B1C-4C14-872E-965B888B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ED1C-AE49-49CB-8EFC-E3BF326E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BCF3-0A76-4E56-B3CE-A40D5158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4709-76AD-4582-9B2F-04F6CE00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16DB-2404-430A-9A0F-6253B3A1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A01D-7B70-4A39-9FF9-9E465391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C32-24D2-45C3-9A78-88F19996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E323-CC16-4E0F-A859-03CFD117909D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0087-CF07-4711-BE32-5F900705A680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ypes of Comp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Date Placeholder 2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9CA2-F1FE-427D-AF71-8DBCB86CF1DD}" type="datetime">
              <a:rPr b="0" lang="en-GB" sz="12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92880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re are two types of comp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Ionic Comp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se are compounds where electrons are transferred from one atom to another to give each atom full outer sh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is forms a (+) ion and a (-) ion. These oppositely charged ions are attracted to each other to form a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ionic b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g    Na = 2,8,1                                   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Now Na</a:t>
            </a:r>
            <a:r>
              <a:rPr b="0" lang="en-US" sz="2400" spc="-1" strike="noStrike" baseline="30000">
                <a:solidFill>
                  <a:srgbClr val="00ff00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 is for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l =  2,8,7  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0" lang="en-NZ" sz="2400" spc="-1" strike="noStrike">
                <a:solidFill>
                  <a:srgbClr val="00ff00"/>
                </a:solidFill>
                <a:latin typeface="Arial"/>
                <a:ea typeface="Arial"/>
              </a:rPr>
              <a:t>Now Cl</a:t>
            </a:r>
            <a:r>
              <a:rPr b="0" lang="en-NZ" sz="2400" spc="-1" strike="noStrike" baseline="30000">
                <a:solidFill>
                  <a:srgbClr val="00ff00"/>
                </a:solidFill>
                <a:latin typeface="Arial"/>
                <a:ea typeface="Arial"/>
              </a:rPr>
              <a:t>-</a:t>
            </a:r>
            <a:r>
              <a:rPr b="0" lang="en-NZ" sz="2400" spc="-1" strike="noStrike">
                <a:solidFill>
                  <a:srgbClr val="00ff00"/>
                </a:solidFill>
                <a:latin typeface="Arial"/>
                <a:ea typeface="Arial"/>
              </a:rPr>
              <a:t> is for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The Na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 and Cl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 come together to form NaCl   (now we don’t write the charg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2" name="Straight Arrow Connector 9"/>
          <p:cNvCxnSpPr/>
          <p:nvPr/>
        </p:nvCxnSpPr>
        <p:spPr>
          <a:xfrm flipH="1">
            <a:off x="2142360" y="4571640"/>
            <a:ext cx="2520" cy="786600"/>
          </a:xfrm>
          <a:prstGeom prst="straightConnector1">
            <a:avLst/>
          </a:prstGeom>
          <a:ln w="41400">
            <a:solidFill>
              <a:srgbClr val="66ffff"/>
            </a:solidFill>
            <a:miter/>
            <a:tailEnd len="med" type="arrow" w="med"/>
          </a:ln>
        </p:spPr>
      </p:cxnSp>
      <p:sp>
        <p:nvSpPr>
          <p:cNvPr id="173" name="TextBox 10"/>
          <p:cNvSpPr/>
          <p:nvPr/>
        </p:nvSpPr>
        <p:spPr>
          <a:xfrm>
            <a:off x="2357280" y="4714920"/>
            <a:ext cx="264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66ffff"/>
                </a:solidFill>
                <a:latin typeface="Arial"/>
              </a:rPr>
              <a:t>The Na electron is                   transferred to  the Cl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900000" y="2349360"/>
            <a:ext cx="71438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alent bonds involve atom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aring  electrons to form molec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lecul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compounds made of two or more different ato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 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,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lecul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also be elements where 2 identical atoms are covalently bonded together eg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t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tle 1"/>
          <p:cNvSpPr/>
          <p:nvPr/>
        </p:nvSpPr>
        <p:spPr>
          <a:xfrm>
            <a:off x="21420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Types of Compoun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959040" y="1428840"/>
            <a:ext cx="56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.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ovalently bonded Comp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0" y="98100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member covalent bonds involve th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haring of electr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0" y="2500200"/>
            <a:ext cx="8642520" cy="35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is how both carbon and hydrogen achieve full valence (or outer) shells in 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atoms form covalent bonds they form 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molecu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Object 7"/>
          <p:cNvGraphicFramePr/>
          <p:nvPr/>
        </p:nvGraphicFramePr>
        <p:xfrm>
          <a:off x="1692360" y="4724280"/>
          <a:ext cx="1012680" cy="9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724280"/>
                    <a:ext cx="101268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9"/>
          <p:cNvGraphicFramePr/>
          <p:nvPr/>
        </p:nvGraphicFramePr>
        <p:xfrm>
          <a:off x="5796000" y="4797360"/>
          <a:ext cx="87948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4797360"/>
                    <a:ext cx="87948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Text Box 16"/>
          <p:cNvSpPr/>
          <p:nvPr/>
        </p:nvSpPr>
        <p:spPr>
          <a:xfrm>
            <a:off x="250920" y="2349360"/>
            <a:ext cx="785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rst draw both atoms with their valence electr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395280" y="476280"/>
            <a:ext cx="820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How to draw the bonding structure of a covalent molecu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285840" y="928800"/>
            <a:ext cx="8858160" cy="65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. In pairs use the model atoms to make a methane (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) molec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 atoms are black    H atoms are wh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Use the long grey bonds to join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2. Then make an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 molec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 = white        O = 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3. Then make a 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molec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 = yellow              O = 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4. Then make an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molec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TextBox 2" descr=""/>
          <p:cNvPicPr/>
          <p:nvPr/>
        </p:nvPicPr>
        <p:blipFill>
          <a:blip r:embed="rId1"/>
          <a:stretch/>
        </p:blipFill>
        <p:spPr>
          <a:xfrm>
            <a:off x="255600" y="115920"/>
            <a:ext cx="5327640" cy="6951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6429240" y="3000240"/>
            <a:ext cx="1785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Show me when you have finished each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285840" y="928800"/>
            <a:ext cx="88581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n make a carbon dioxide  (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) molec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n make a glucose (C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) molecule (hint make a ring of 6 carb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TextBox 2" descr=""/>
          <p:cNvPicPr/>
          <p:nvPr/>
        </p:nvPicPr>
        <p:blipFill>
          <a:blip r:embed="rId1"/>
          <a:stretch/>
        </p:blipFill>
        <p:spPr>
          <a:xfrm>
            <a:off x="255600" y="115920"/>
            <a:ext cx="5327640" cy="6951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3"/>
          <p:cNvSpPr/>
          <p:nvPr/>
        </p:nvSpPr>
        <p:spPr>
          <a:xfrm>
            <a:off x="6429240" y="3000240"/>
            <a:ext cx="1785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Show me when you have finished each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611280" y="285840"/>
            <a:ext cx="770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valent bonding in methane (C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611280" y="10778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the carbon atomic number we fi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900000" y="1725480"/>
            <a:ext cx="1511280" cy="18716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1332000" y="222876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1476360" y="19414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1332000" y="294948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 flipH="1">
            <a:off x="1836720" y="2157480"/>
            <a:ext cx="12952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3132000" y="2013120"/>
            <a:ext cx="6012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n has an electron arrangement of  2,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means carbon has 4 electrons in its val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or outer) she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21" descr=""/>
          <p:cNvPicPr/>
          <p:nvPr/>
        </p:nvPicPr>
        <p:blipFill>
          <a:blip r:embed="rId1"/>
          <a:stretch/>
        </p:blipFill>
        <p:spPr>
          <a:xfrm>
            <a:off x="1357200" y="5572080"/>
            <a:ext cx="1013040" cy="9781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22"/>
          <p:cNvSpPr/>
          <p:nvPr/>
        </p:nvSpPr>
        <p:spPr>
          <a:xfrm>
            <a:off x="857160" y="4572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can draw the  4 valence electrons of carbon like thi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3"/>
          <p:cNvSpPr/>
          <p:nvPr/>
        </p:nvSpPr>
        <p:spPr>
          <a:xfrm>
            <a:off x="2771640" y="5300640"/>
            <a:ext cx="590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many electrons does carbon need in its valence (or outer) shel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Ans: 8 elect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684360" y="1701720"/>
            <a:ext cx="1511280" cy="187164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116000" y="220500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260360" y="1917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1189080" y="29275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8"/>
          <p:cNvSpPr/>
          <p:nvPr/>
        </p:nvSpPr>
        <p:spPr>
          <a:xfrm flipH="1">
            <a:off x="1620360" y="2133720"/>
            <a:ext cx="1295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2916360" y="1989000"/>
            <a:ext cx="5689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drogen has an electron arrangement of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means hydrogen has 1 electron in its valence (or outer) she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468360" y="69228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the hydrogen atomic number we fi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12" descr=""/>
          <p:cNvPicPr/>
          <p:nvPr/>
        </p:nvPicPr>
        <p:blipFill>
          <a:blip r:embed="rId1"/>
          <a:stretch/>
        </p:blipFill>
        <p:spPr>
          <a:xfrm>
            <a:off x="1214280" y="5500800"/>
            <a:ext cx="879480" cy="7905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3"/>
          <p:cNvSpPr/>
          <p:nvPr/>
        </p:nvSpPr>
        <p:spPr>
          <a:xfrm>
            <a:off x="900000" y="4149720"/>
            <a:ext cx="78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can draw the valence electron of hydrogen like thi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2500200" y="491976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many electrons does hydrogen need in its valence (or outer) shel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Ans: 2 elect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6156360" y="2060640"/>
            <a:ext cx="1787400" cy="16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4" name="Object 6"/>
          <p:cNvGraphicFramePr/>
          <p:nvPr/>
        </p:nvGraphicFramePr>
        <p:xfrm>
          <a:off x="1044720" y="2133720"/>
          <a:ext cx="1787400" cy="16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133720"/>
                    <a:ext cx="1787400" cy="16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Oval 7"/>
          <p:cNvSpPr/>
          <p:nvPr/>
        </p:nvSpPr>
        <p:spPr>
          <a:xfrm>
            <a:off x="1189080" y="2637000"/>
            <a:ext cx="649080" cy="647640"/>
          </a:xfrm>
          <a:prstGeom prst="ellipse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539640" y="33336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4 hydrogen atoms around the C atom so that each H shares an electron with a C elect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 flipV="1">
            <a:off x="826920" y="3284280"/>
            <a:ext cx="505080" cy="86364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179280" y="4149720"/>
            <a:ext cx="43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H atom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har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ne electron with one C electron to give each H a full valence shell of 2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4751280" y="4076640"/>
            <a:ext cx="4392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har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electrons between H and C also means the C atom has a full valence shell of 8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14"/>
          <p:cNvSpPr/>
          <p:nvPr/>
        </p:nvSpPr>
        <p:spPr>
          <a:xfrm>
            <a:off x="6659640" y="2492280"/>
            <a:ext cx="792000" cy="719280"/>
          </a:xfrm>
          <a:prstGeom prst="ellipse">
            <a:avLst/>
          </a:prstGeom>
          <a:noFill/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395280" y="5589720"/>
            <a:ext cx="8280360" cy="825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an you see that both H and C atoms have full valence shells by sharing their electr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7"/>
          <p:cNvSpPr/>
          <p:nvPr/>
        </p:nvSpPr>
        <p:spPr>
          <a:xfrm flipV="1">
            <a:off x="5364000" y="3141360"/>
            <a:ext cx="1441440" cy="93492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1"/>
          <p:cNvSpPr/>
          <p:nvPr/>
        </p:nvSpPr>
        <p:spPr>
          <a:xfrm>
            <a:off x="571680" y="214200"/>
            <a:ext cx="857232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Arial"/>
              </a:rPr>
              <a:t>Ions an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ff00"/>
                </a:solidFill>
                <a:uFillTx/>
                <a:latin typeface="Arial"/>
              </a:rPr>
              <a:t>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rite down the following filling in the ga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ons  are atoms that have g_____ or l_____ electrons to form p_______ or n________ 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3 examples of ions are _________ion symbol (     ) , ________ ion symbol (    ) and _________ ion symbol (   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250920" y="5084640"/>
            <a:ext cx="86040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Choose from : smallest, neutrons, covalent, electrons, gained, loss, negative, positive, valence, outer, protons, water, hydrogen gas, H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, CO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, H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1"/>
          <p:cNvSpPr/>
          <p:nvPr/>
        </p:nvSpPr>
        <p:spPr>
          <a:xfrm>
            <a:off x="571680" y="214200"/>
            <a:ext cx="807228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Arial"/>
              </a:rPr>
              <a:t>Atoms, Ions an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ff00"/>
                </a:solidFill>
                <a:uFillTx/>
                <a:latin typeface="Arial"/>
              </a:rPr>
              <a:t>A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rite down the following filling in the ga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toms are the s________ particles that make up all th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y consist of ________ and _________ in the nucleus with e________ in shells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3 examples of atoms are _________ symbol (     ) , ________ symbol (    ) and _________ symbol (   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250920" y="5084640"/>
            <a:ext cx="86040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Choose from : smallest, neutrons, covalent, electrons, gained, loss, negative, positive, valence, outer, protons, water, hydrogen gas, H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, CO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, H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0" y="0"/>
            <a:ext cx="9144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onic compounds are always between a metal and a non m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g     Na (metal)         Cl (non metal)     make Na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n year 11 you will be given a table of ions – you don’t have to remember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But you must know how to write balanced formula for ionic compounds using these 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411280" y="3500280"/>
          <a:ext cx="4176720" cy="3200400"/>
        </p:xfrm>
        <a:graphic>
          <a:graphicData uri="http://schemas.openxmlformats.org/drawingml/2006/table">
            <a:tbl>
              <a:tblPr/>
              <a:tblGrid>
                <a:gridCol w="1044720"/>
                <a:gridCol w="1111320"/>
                <a:gridCol w="976320"/>
                <a:gridCol w="10443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 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u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n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b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571680" y="214200"/>
            <a:ext cx="857232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Arial"/>
              </a:rPr>
              <a:t>Atoms, Ions an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ff00"/>
                </a:solidFill>
                <a:uFillTx/>
                <a:latin typeface="Arial"/>
              </a:rPr>
              <a:t>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rite down the following filling in the ga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olecules are where two or more atoms share electrons in a  c________ bond to give both atoms full v______ or o______ sh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3 examples of molecules are w_______ formula (       ) , c________  d_______ formula (       ) and h______ g___  formula (    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50920" y="5084640"/>
            <a:ext cx="8893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Choose from : smallest, neutrons, covalent, electrons, gained, loss, negative, positive, valence, outer, protons, water, hydrogen gas, H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, CO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, H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85B8-334B-4336-BCEF-800A7E3E543E}" type="datetime">
              <a:rPr b="0" lang="en-GB" sz="12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99ccff"/>
                </a:solidFill>
                <a:latin typeface="Arial"/>
              </a:rPr>
              <a:t>What is an 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Arial"/>
              </a:rPr>
              <a:t>An anion is an atom that has gained electron(s) to form a (-) 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0" lang="en-NZ" sz="3200" spc="-1" strike="noStrike">
                <a:solidFill>
                  <a:srgbClr val="ff99ff"/>
                </a:solidFill>
                <a:latin typeface="Arial"/>
              </a:rPr>
              <a:t>e.g Cl</a:t>
            </a:r>
            <a:r>
              <a:rPr b="0" lang="en-NZ" sz="3200" spc="-1" strike="noStrike" baseline="30000">
                <a:solidFill>
                  <a:srgbClr val="ff99ff"/>
                </a:solidFill>
                <a:latin typeface="Arial"/>
              </a:rPr>
              <a:t>- </a:t>
            </a:r>
            <a:r>
              <a:rPr b="0" lang="en-NZ" sz="3200" spc="-1" strike="noStrike">
                <a:solidFill>
                  <a:srgbClr val="ff99ff"/>
                </a:solidFill>
                <a:latin typeface="Arial"/>
              </a:rPr>
              <a:t>(Chloride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99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99ff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ff99ff"/>
                </a:solidFill>
                <a:latin typeface="Arial"/>
              </a:rPr>
              <a:t>S</a:t>
            </a:r>
            <a:r>
              <a:rPr b="0" lang="en-NZ" sz="3200" spc="-1" strike="noStrike" baseline="30000">
                <a:solidFill>
                  <a:srgbClr val="ff99ff"/>
                </a:solidFill>
                <a:latin typeface="Arial"/>
              </a:rPr>
              <a:t>2- </a:t>
            </a:r>
            <a:r>
              <a:rPr b="0" lang="en-NZ" sz="3200" spc="-1" strike="noStrike">
                <a:solidFill>
                  <a:srgbClr val="ff99ff"/>
                </a:solidFill>
                <a:latin typeface="Arial"/>
              </a:rPr>
              <a:t>(Sulfid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Arial"/>
              </a:rPr>
              <a:t>or a cation is an atom that has lost electron(s) to form a (+)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e.g  Na</a:t>
            </a:r>
            <a:r>
              <a:rPr b="0" lang="en-NZ" sz="32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(Sodium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NZ" sz="32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(iron (ll) ion) (aka Ferric ion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NZ" sz="3200" spc="-1" strike="noStrike" baseline="30000">
                <a:solidFill>
                  <a:srgbClr val="ffffff"/>
                </a:solidFill>
                <a:latin typeface="Arial"/>
              </a:rPr>
              <a:t>3+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(iron(lll) ion ) (Ferro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1"/>
          <p:cNvSpPr/>
          <p:nvPr/>
        </p:nvSpPr>
        <p:spPr>
          <a:xfrm>
            <a:off x="285840" y="71280"/>
            <a:ext cx="864396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00"/>
                </a:solidFill>
                <a:latin typeface="Arial"/>
              </a:rPr>
              <a:t>Compounds can be two types – Copy this  neatly into your bo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. Compounds can be </a:t>
            </a: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Io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onic compounds form </a:t>
            </a: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when atoms lose and gain electrons to form charged (+) and (-)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se oppositely charged ions are attracted together to form an ionic bo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onic bonds always occur between a metal and non me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Arial"/>
              </a:rPr>
              <a:t>Eg  Na (+)  and  Cl (-)  come together to form  Na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1"/>
          <p:cNvSpPr/>
          <p:nvPr/>
        </p:nvSpPr>
        <p:spPr>
          <a:xfrm>
            <a:off x="285840" y="71280"/>
            <a:ext cx="86439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00"/>
                </a:solidFill>
                <a:latin typeface="Arial"/>
              </a:rPr>
              <a:t>Compounds can be two types – Copy this  neatly into your bo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2. Compounds can be </a:t>
            </a: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Coval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285840" y="2428920"/>
            <a:ext cx="842940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se atoms share electrons so that each atom has a full outer she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sharing of electrons is called a covalent bond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ovalently bonded atoms form molec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Molecules are always between non metal at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Arial"/>
              </a:rPr>
              <a:t>Examples of molecules are CH</a:t>
            </a:r>
            <a:r>
              <a:rPr b="0" lang="en-NZ" sz="2800" spc="-1" strike="noStrike" baseline="-25000">
                <a:solidFill>
                  <a:srgbClr val="00ff00"/>
                </a:solidFill>
                <a:latin typeface="Arial"/>
              </a:rPr>
              <a:t>4</a:t>
            </a:r>
            <a:r>
              <a:rPr b="0" lang="en-NZ" sz="2800" spc="-1" strike="noStrike">
                <a:solidFill>
                  <a:srgbClr val="00ff00"/>
                </a:solidFill>
                <a:latin typeface="Arial"/>
              </a:rPr>
              <a:t> methane, H</a:t>
            </a:r>
            <a:r>
              <a:rPr b="0" lang="en-NZ" sz="2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ff00"/>
                </a:solidFill>
                <a:latin typeface="Arial"/>
              </a:rPr>
              <a:t>O water, CO</a:t>
            </a:r>
            <a:r>
              <a:rPr b="0" lang="en-NZ" sz="2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ff00"/>
                </a:solidFill>
                <a:latin typeface="Arial"/>
              </a:rPr>
              <a:t> carbon diox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78BC-2C60-4BB4-8EDE-5217055F6A0D}" type="datetime">
              <a:rPr b="0" lang="en-GB" sz="12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0" y="260280"/>
            <a:ext cx="88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Atoms and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A substance made of one type of atom is called an 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86d1ec"/>
                </a:solidFill>
                <a:latin typeface="Arial"/>
              </a:rPr>
              <a:t>e.g. a piece of Aluminium (symbol Al) consists of only aluminium atoms bonded together and is called an </a:t>
            </a:r>
            <a:r>
              <a:rPr b="1" lang="en-NZ" sz="3200" spc="-1" strike="noStrike" u="sng">
                <a:solidFill>
                  <a:srgbClr val="66ff33"/>
                </a:solidFill>
                <a:uFillTx/>
                <a:latin typeface="Arial"/>
              </a:rPr>
              <a:t>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00FC-0189-4F8A-AD53-152B33C72634}" type="datetime">
              <a:rPr b="0" lang="en-GB" sz="12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d1ec"/>
                </a:solidFill>
                <a:latin typeface="Arial"/>
              </a:rPr>
              <a:t>Molecu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Some elements are unstable as single atoms and only exist as 2 atoms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covalently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 bonded together to form a </a:t>
            </a:r>
            <a:r>
              <a:rPr b="1" lang="en-US" sz="3200" spc="-1" strike="noStrike" u="sng">
                <a:solidFill>
                  <a:srgbClr val="99ff33"/>
                </a:solidFill>
                <a:uFillTx/>
                <a:latin typeface="Arial"/>
              </a:rPr>
              <a:t>molecu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These are usually g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.g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, N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, Cl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, 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D653-0E21-41FD-8953-4DFBC2E5840D}" type="datetime">
              <a:rPr b="0" lang="en-GB" sz="12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d1ec"/>
                </a:solidFill>
                <a:latin typeface="Arial"/>
              </a:rPr>
              <a:t>Compounds and Molecu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772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Some compounds are molecules that contain 2 or more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different</a:t>
            </a: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 atoms </a:t>
            </a: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covalently bonded</a:t>
            </a: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 together. Some common molecular compounds are: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carbon dioxid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 (wa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(metha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12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6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(gluco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A12A-8291-4610-8909-4CF409489DB0}" type="datetime">
              <a:rPr b="0" lang="en-GB" sz="12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Balancing Reaction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Group 4"/>
          <p:cNvGrpSpPr/>
          <p:nvPr/>
        </p:nvGrpSpPr>
        <p:grpSpPr>
          <a:xfrm>
            <a:off x="1214280" y="1428840"/>
            <a:ext cx="6912000" cy="3551040"/>
            <a:chOff x="1214280" y="1428840"/>
            <a:chExt cx="6912000" cy="3551040"/>
          </a:xfrm>
        </p:grpSpPr>
        <p:sp>
          <p:nvSpPr>
            <p:cNvPr id="297" name="Text Box 5"/>
            <p:cNvSpPr/>
            <p:nvPr/>
          </p:nvSpPr>
          <p:spPr>
            <a:xfrm>
              <a:off x="1214280" y="1428840"/>
              <a:ext cx="2989440" cy="35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Mg    +    O</a:t>
              </a:r>
              <a:r>
                <a:rPr b="0" lang="en-GB" sz="1800" spc="-1" strike="noStrike" baseline="-25000">
                  <a:solidFill>
                    <a:srgbClr val="ffcc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Zn    +    HC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Fe    +    Cl</a:t>
              </a:r>
              <a:r>
                <a:rPr b="0" lang="en-GB" sz="1800" spc="-1" strike="noStrike" baseline="-25000">
                  <a:solidFill>
                    <a:srgbClr val="ffcc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OH    +    HC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CH</a:t>
              </a:r>
              <a:r>
                <a:rPr b="0" lang="en-GB" sz="1800" spc="-1" strike="noStrike" baseline="-25000">
                  <a:solidFill>
                    <a:srgbClr val="ffcc66"/>
                  </a:solidFill>
                  <a:latin typeface="Arial"/>
                </a:rPr>
                <a:t>4</a:t>
              </a: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    +    O</a:t>
              </a:r>
              <a:r>
                <a:rPr b="0" lang="en-GB" sz="1800" spc="-1" strike="noStrike" baseline="-25000">
                  <a:solidFill>
                    <a:srgbClr val="ffcc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a    +    H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NaOH    +    H</a:t>
              </a:r>
              <a:r>
                <a:rPr b="0" lang="en-GB" sz="1800" spc="-1" strike="noStrike" baseline="-25000">
                  <a:solidFill>
                    <a:srgbClr val="ffcc66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SO</a:t>
              </a:r>
              <a:r>
                <a:rPr b="0" lang="en-GB" sz="1800" spc="-1" strike="noStrike" baseline="-25000">
                  <a:solidFill>
                    <a:srgbClr val="ffcc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H    +    O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     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6"/>
            <p:cNvSpPr/>
            <p:nvPr/>
          </p:nvSpPr>
          <p:spPr>
            <a:xfrm>
              <a:off x="5246640" y="1428840"/>
              <a:ext cx="2879640" cy="35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Mg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ZnCl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   +    H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FeCl</a:t>
              </a:r>
              <a:r>
                <a:rPr b="0" lang="en-GB" sz="1800" spc="-1" strike="noStrike" baseline="-25000">
                  <a:solidFill>
                    <a:srgbClr val="ffcc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Cl    +    H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CO</a:t>
              </a:r>
              <a:r>
                <a:rPr b="0" lang="en-GB" sz="1800" spc="-1" strike="noStrike" baseline="-25000">
                  <a:solidFill>
                    <a:srgbClr val="ffcc66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    +    H</a:t>
              </a:r>
              <a:r>
                <a:rPr b="0" lang="en-GB" sz="1800" spc="-1" strike="noStrike" baseline="-25000">
                  <a:solidFill>
                    <a:srgbClr val="ffcc66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a(OH)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   +    H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Na</a:t>
              </a:r>
              <a:r>
                <a:rPr b="0" lang="en-GB" sz="1800" spc="-1" strike="noStrike" baseline="-25000">
                  <a:solidFill>
                    <a:srgbClr val="ffcc66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SO</a:t>
              </a:r>
              <a:r>
                <a:rPr b="0" lang="en-GB" sz="1800" spc="-1" strike="noStrike" baseline="-25000">
                  <a:solidFill>
                    <a:srgbClr val="ffcc66"/>
                  </a:solidFill>
                  <a:latin typeface="Arial"/>
                </a:rPr>
                <a:t>4</a:t>
              </a: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    +    H</a:t>
              </a:r>
              <a:r>
                <a:rPr b="0" lang="en-GB" sz="1800" spc="-1" strike="noStrike" baseline="-25000">
                  <a:solidFill>
                    <a:srgbClr val="ffcc66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   +    H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7"/>
            <p:cNvSpPr/>
            <p:nvPr/>
          </p:nvSpPr>
          <p:spPr>
            <a:xfrm>
              <a:off x="4454640" y="1644480"/>
              <a:ext cx="43164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Line 8"/>
          <p:cNvSpPr/>
          <p:nvPr/>
        </p:nvSpPr>
        <p:spPr>
          <a:xfrm>
            <a:off x="4429080" y="242892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9"/>
          <p:cNvSpPr/>
          <p:nvPr/>
        </p:nvSpPr>
        <p:spPr>
          <a:xfrm>
            <a:off x="4429080" y="2857680"/>
            <a:ext cx="43200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0"/>
          <p:cNvSpPr/>
          <p:nvPr/>
        </p:nvSpPr>
        <p:spPr>
          <a:xfrm>
            <a:off x="4429080" y="328608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11"/>
          <p:cNvSpPr/>
          <p:nvPr/>
        </p:nvSpPr>
        <p:spPr>
          <a:xfrm>
            <a:off x="4500720" y="3714840"/>
            <a:ext cx="43164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12"/>
          <p:cNvSpPr/>
          <p:nvPr/>
        </p:nvSpPr>
        <p:spPr>
          <a:xfrm>
            <a:off x="4429080" y="407196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13"/>
          <p:cNvSpPr/>
          <p:nvPr/>
        </p:nvSpPr>
        <p:spPr>
          <a:xfrm>
            <a:off x="4429080" y="4500720"/>
            <a:ext cx="43200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14"/>
          <p:cNvSpPr/>
          <p:nvPr/>
        </p:nvSpPr>
        <p:spPr>
          <a:xfrm>
            <a:off x="4454640" y="5460840"/>
            <a:ext cx="43164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1428840" y="1428840"/>
            <a:ext cx="29527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2          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5003640" y="1413000"/>
            <a:ext cx="2448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13"/>
          <p:cNvSpPr/>
          <p:nvPr/>
        </p:nvSpPr>
        <p:spPr>
          <a:xfrm>
            <a:off x="4429080" y="2000160"/>
            <a:ext cx="43200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Date Placeholder 2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6E09-7ED5-40A1-8AC3-8EB3A1AB67F0}" type="datetime">
              <a:rPr b="0" lang="en-GB" sz="12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imple formulae to lear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228600" y="1600200"/>
            <a:ext cx="1143000" cy="31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cc"/>
                </a:solidFill>
                <a:latin typeface="Arial"/>
              </a:rPr>
              <a:t>H</a:t>
            </a:r>
            <a:r>
              <a:rPr b="0" lang="en-GB" sz="1800" spc="-1" strike="noStrike" baseline="-25000">
                <a:solidFill>
                  <a:srgbClr val="99ffcc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99ffcc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cc"/>
                </a:solidFill>
                <a:latin typeface="Arial"/>
              </a:rPr>
              <a:t>NH</a:t>
            </a:r>
            <a:r>
              <a:rPr b="0" lang="en-GB" sz="1800" spc="-1" strike="noStrike" baseline="-25000">
                <a:solidFill>
                  <a:srgbClr val="99ff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cc"/>
                </a:solidFill>
                <a:latin typeface="Arial"/>
              </a:rPr>
              <a:t>O</a:t>
            </a:r>
            <a:r>
              <a:rPr b="0" lang="en-GB" sz="1800" spc="-1" strike="noStrike" baseline="-25000">
                <a:solidFill>
                  <a:srgbClr val="99ff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cc"/>
                </a:solidFill>
                <a:latin typeface="Arial"/>
              </a:rPr>
              <a:t>SO</a:t>
            </a:r>
            <a:r>
              <a:rPr b="0" lang="en-GB" sz="1800" spc="-1" strike="noStrike" baseline="-25000">
                <a:solidFill>
                  <a:srgbClr val="99ff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1676520" y="1600200"/>
            <a:ext cx="28191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cc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cc"/>
                </a:solidFill>
                <a:latin typeface="Arial"/>
              </a:rPr>
              <a:t>Ammo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cc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it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cc"/>
                </a:solidFill>
                <a:latin typeface="Arial"/>
              </a:rPr>
              <a:t>Sulphur diox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4952880" y="1600200"/>
            <a:ext cx="1828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Na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M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H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S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NaO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(OH)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CaC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Fe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6553080" y="1600200"/>
            <a:ext cx="25909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Sodium chlor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lcium chlor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Magnesium ox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ydrochlor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Sulphur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itr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Sodium hydrox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lcium hydrox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Calcium carbon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uminium ox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Iron ox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3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4"/>
          <p:cNvSpPr/>
          <p:nvPr/>
        </p:nvSpPr>
        <p:spPr>
          <a:xfrm>
            <a:off x="857160" y="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ffff00"/>
                </a:solidFill>
                <a:uFillTx/>
                <a:latin typeface="Arial"/>
              </a:rPr>
              <a:t>Acid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642960" y="642960"/>
            <a:ext cx="792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cids release hydrogen ions (H+) in water to give acidic solu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Common Lab Acids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ulfuric acid (formula 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Nitric acid  (formula HNO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ydrochloric acid (formula HCl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7" descr="1113_acids"/>
          <p:cNvPicPr/>
          <p:nvPr/>
        </p:nvPicPr>
        <p:blipFill>
          <a:blip r:embed="rId1"/>
          <a:stretch/>
        </p:blipFill>
        <p:spPr>
          <a:xfrm>
            <a:off x="7286760" y="2571840"/>
            <a:ext cx="1736640" cy="18000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8"/>
          <p:cNvSpPr/>
          <p:nvPr/>
        </p:nvSpPr>
        <p:spPr>
          <a:xfrm>
            <a:off x="428760" y="4286160"/>
            <a:ext cx="73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se are </a:t>
            </a:r>
            <a:r>
              <a:rPr b="1" lang="en-NZ" sz="2800" spc="-1" strike="noStrike">
                <a:solidFill>
                  <a:srgbClr val="00ff00"/>
                </a:solidFill>
                <a:latin typeface="Arial"/>
              </a:rPr>
              <a:t>strong acids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because they form a lot of H+ ions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714240" y="542916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g      HCl (l)                 H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(aq) +   Cl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(aq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2857680" y="564372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714240" y="6072120"/>
            <a:ext cx="685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g   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(l)                 2H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(aq) +   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2-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(aq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3357720" y="635796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-27000"/>
          <a:ext cx="9144000" cy="6819840"/>
        </p:xfrm>
        <a:graphic>
          <a:graphicData uri="http://schemas.openxmlformats.org/drawingml/2006/table">
            <a:tbl>
              <a:tblPr/>
              <a:tblGrid>
                <a:gridCol w="1763640"/>
                <a:gridCol w="2016360"/>
                <a:gridCol w="1800000"/>
                <a:gridCol w="1752840"/>
                <a:gridCol w="1811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94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Sodiu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magnesiu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aluminiu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oxid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hydroxid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62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Lithiu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calciu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   </a:t>
                      </a:r>
                      <a:r>
                        <a:rPr b="1" lang="en-NZ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Fe</a:t>
                      </a:r>
                      <a:r>
                        <a:rPr b="1" lang="en-NZ" sz="2400" spc="-1" strike="noStrike" baseline="30000">
                          <a:solidFill>
                            <a:srgbClr val="00ff00"/>
                          </a:solidFill>
                          <a:latin typeface="Arial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ferri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   </a:t>
                      </a:r>
                      <a:r>
                        <a:rPr b="1" lang="en-NZ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SO</a:t>
                      </a:r>
                      <a:r>
                        <a:rPr b="1" lang="en-NZ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4</a:t>
                      </a:r>
                      <a:r>
                        <a:rPr b="1" lang="en-NZ" sz="2400" spc="-1" strike="noStrike" baseline="30000">
                          <a:solidFill>
                            <a:srgbClr val="00ff00"/>
                          </a:solidFill>
                          <a:latin typeface="Arial"/>
                        </a:rPr>
                        <a:t>2-</a:t>
                      </a: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sulfat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    </a:t>
                      </a:r>
                      <a:r>
                        <a:rPr b="1" lang="en-NZ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Cl</a:t>
                      </a:r>
                      <a:r>
                        <a:rPr b="1" lang="en-NZ" sz="2400" spc="-1" strike="noStrike" baseline="30000">
                          <a:solidFill>
                            <a:srgbClr val="00ff00"/>
                          </a:solidFill>
                          <a:latin typeface="Arial"/>
                        </a:rPr>
                        <a:t>-</a:t>
                      </a: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chlorid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tassi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ferrou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   </a:t>
                      </a:r>
                      <a:r>
                        <a:rPr b="1" lang="en-NZ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CO</a:t>
                      </a:r>
                      <a:r>
                        <a:rPr b="1" lang="en-NZ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3 </a:t>
                      </a:r>
                      <a:r>
                        <a:rPr b="1" lang="en-NZ" sz="2400" spc="-1" strike="noStrike" baseline="30000">
                          <a:solidFill>
                            <a:srgbClr val="00ff00"/>
                          </a:solidFill>
                          <a:latin typeface="Arial"/>
                        </a:rPr>
                        <a:t>2-</a:t>
                      </a: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carbonat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F</a:t>
                      </a:r>
                      <a:r>
                        <a:rPr b="1" lang="en-NZ" sz="2400" spc="-1" strike="noStrike" baseline="30000">
                          <a:solidFill>
                            <a:srgbClr val="00ff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 baseline="30000">
                          <a:solidFill>
                            <a:srgbClr val="00ff00"/>
                          </a:solidFill>
                          <a:latin typeface="Arial"/>
                        </a:rPr>
                        <a:t> </a:t>
                      </a: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fluorid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u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coppe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r>
                        <a:rPr b="0" lang="en-NZ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NZ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itrat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n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zin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b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lea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900000" y="26028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ffff00"/>
                </a:solidFill>
                <a:uFillTx/>
                <a:latin typeface="Arial"/>
              </a:rPr>
              <a:t>Acid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42920" y="1052640"/>
            <a:ext cx="8461440" cy="44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Other  Acids found around the home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ethanoic acid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(formula C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OOH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is is the acid found in vineg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Tartaric acid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(formula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2800" spc="-1" strike="noStrike" baseline="-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2800" spc="-1" strike="noStrike" baseline="-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800" spc="-1" strike="noStrike" baseline="-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)used in coo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Citric acid  (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formula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2800" spc="-1" strike="noStrike" baseline="-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2800" spc="-1" strike="noStrike" baseline="-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800" spc="-1" strike="noStrike" baseline="-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is is the acid found in oranges and other fru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scorbic acid is another acid known as vitamin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4" descr="1113_acids"/>
          <p:cNvPicPr/>
          <p:nvPr/>
        </p:nvPicPr>
        <p:blipFill>
          <a:blip r:embed="rId1"/>
          <a:stretch/>
        </p:blipFill>
        <p:spPr>
          <a:xfrm>
            <a:off x="7764480" y="0"/>
            <a:ext cx="1379520" cy="14302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5"/>
          <p:cNvSpPr/>
          <p:nvPr/>
        </p:nvSpPr>
        <p:spPr>
          <a:xfrm>
            <a:off x="468360" y="573408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se acids are called </a:t>
            </a:r>
            <a:r>
              <a:rPr b="1" lang="en-NZ" sz="2800" spc="-1" strike="noStrike">
                <a:solidFill>
                  <a:srgbClr val="00ff00"/>
                </a:solidFill>
                <a:latin typeface="Arial"/>
              </a:rPr>
              <a:t>weak acids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because they form a small number of H+ ions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B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Bases are substances that release hydroxide ions (OH-)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g      NaOH (s)                 Na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(aq) +   OH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(aq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g      KOH (s)                 K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(aq) +   OH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(aq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Strong bases give off lots of OH- ions and weak base give off less OH- 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Common strong bases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odium hydroxide (NaO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Potassium hydroxide (KO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mmonium hydroxide (N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H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ny cleaning agents are bases eg oven cleaners, window clea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4"/>
          <p:cNvSpPr/>
          <p:nvPr/>
        </p:nvSpPr>
        <p:spPr>
          <a:xfrm>
            <a:off x="2857680" y="221472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786040" y="292896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4"/>
          <p:cNvSpPr/>
          <p:nvPr/>
        </p:nvSpPr>
        <p:spPr>
          <a:xfrm>
            <a:off x="0" y="0"/>
            <a:ext cx="86425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ffff00"/>
                </a:solidFill>
                <a:uFillTx/>
                <a:latin typeface="Arial"/>
              </a:rPr>
              <a:t>The pH 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amount of H+ ions given off by an acid are measured by the pH 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 on the pH scale means there are a lot of H+ ions in the water and the solution is said to be acid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4 on the pH scale means there are very few H+ ions in the water but a lot of OH- ions creating a basic solu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0" y="5589720"/>
          <a:ext cx="8675640" cy="641160"/>
        </p:xfrm>
        <a:graphic>
          <a:graphicData uri="http://schemas.openxmlformats.org/drawingml/2006/table">
            <a:tbl>
              <a:tblPr/>
              <a:tblGrid>
                <a:gridCol w="619200"/>
                <a:gridCol w="620640"/>
                <a:gridCol w="619200"/>
                <a:gridCol w="619200"/>
                <a:gridCol w="620640"/>
                <a:gridCol w="619200"/>
                <a:gridCol w="620640"/>
                <a:gridCol w="619200"/>
                <a:gridCol w="618840"/>
                <a:gridCol w="621000"/>
                <a:gridCol w="618840"/>
                <a:gridCol w="619200"/>
                <a:gridCol w="620640"/>
                <a:gridCol w="61920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5c9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66"/>
                    </a:solidFill>
                  </a:tcPr>
                </a:tc>
              </a:tr>
            </a:tbl>
          </a:graphicData>
        </a:graphic>
      </p:graphicFrame>
      <p:sp>
        <p:nvSpPr>
          <p:cNvPr id="334" name="Text Box 36"/>
          <p:cNvSpPr/>
          <p:nvPr/>
        </p:nvSpPr>
        <p:spPr>
          <a:xfrm>
            <a:off x="0" y="549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Draw the pH scale below your 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0" y="1728720"/>
          <a:ext cx="8675640" cy="641520"/>
        </p:xfrm>
        <a:graphic>
          <a:graphicData uri="http://schemas.openxmlformats.org/drawingml/2006/table">
            <a:tbl>
              <a:tblPr/>
              <a:tblGrid>
                <a:gridCol w="619200"/>
                <a:gridCol w="620640"/>
                <a:gridCol w="619200"/>
                <a:gridCol w="619200"/>
                <a:gridCol w="620640"/>
                <a:gridCol w="619200"/>
                <a:gridCol w="620640"/>
                <a:gridCol w="619200"/>
                <a:gridCol w="618840"/>
                <a:gridCol w="621000"/>
                <a:gridCol w="618840"/>
                <a:gridCol w="619200"/>
                <a:gridCol w="620640"/>
                <a:gridCol w="6192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Text Box 87"/>
          <p:cNvSpPr/>
          <p:nvPr/>
        </p:nvSpPr>
        <p:spPr>
          <a:xfrm>
            <a:off x="539640" y="378936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88"/>
          <p:cNvSpPr/>
          <p:nvPr/>
        </p:nvSpPr>
        <p:spPr>
          <a:xfrm>
            <a:off x="0" y="273672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89"/>
          <p:cNvSpPr/>
          <p:nvPr/>
        </p:nvSpPr>
        <p:spPr>
          <a:xfrm>
            <a:off x="3564000" y="2637000"/>
            <a:ext cx="2244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Neu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Eg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90"/>
          <p:cNvSpPr/>
          <p:nvPr/>
        </p:nvSpPr>
        <p:spPr>
          <a:xfrm>
            <a:off x="8028000" y="273672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Line 91"/>
          <p:cNvSpPr/>
          <p:nvPr/>
        </p:nvSpPr>
        <p:spPr>
          <a:xfrm flipV="1">
            <a:off x="324000" y="223164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Line 92"/>
          <p:cNvSpPr/>
          <p:nvPr/>
        </p:nvSpPr>
        <p:spPr>
          <a:xfrm flipV="1">
            <a:off x="4067280" y="2231640"/>
            <a:ext cx="0" cy="405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93"/>
          <p:cNvSpPr/>
          <p:nvPr/>
        </p:nvSpPr>
        <p:spPr>
          <a:xfrm flipV="1">
            <a:off x="8388360" y="216036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94"/>
          <p:cNvSpPr/>
          <p:nvPr/>
        </p:nvSpPr>
        <p:spPr>
          <a:xfrm>
            <a:off x="0" y="3860640"/>
            <a:ext cx="8964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 colours below are the colours for the different pH numbers with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universal indicator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this indicates how acidic or basic a solution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Task – gently shade your pH scale these col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179280" y="3284640"/>
          <a:ext cx="8675640" cy="641160"/>
        </p:xfrm>
        <a:graphic>
          <a:graphicData uri="http://schemas.openxmlformats.org/drawingml/2006/table">
            <a:tbl>
              <a:tblPr/>
              <a:tblGrid>
                <a:gridCol w="619200"/>
                <a:gridCol w="620640"/>
                <a:gridCol w="619200"/>
                <a:gridCol w="619200"/>
                <a:gridCol w="620640"/>
                <a:gridCol w="619200"/>
                <a:gridCol w="620640"/>
                <a:gridCol w="619200"/>
                <a:gridCol w="619200"/>
                <a:gridCol w="620640"/>
                <a:gridCol w="619200"/>
                <a:gridCol w="618840"/>
                <a:gridCol w="621000"/>
                <a:gridCol w="61884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5c9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0" y="333360"/>
          <a:ext cx="8675640" cy="641520"/>
        </p:xfrm>
        <a:graphic>
          <a:graphicData uri="http://schemas.openxmlformats.org/drawingml/2006/table">
            <a:tbl>
              <a:tblPr/>
              <a:tblGrid>
                <a:gridCol w="619200"/>
                <a:gridCol w="620640"/>
                <a:gridCol w="619200"/>
                <a:gridCol w="619200"/>
                <a:gridCol w="620640"/>
                <a:gridCol w="619200"/>
                <a:gridCol w="620640"/>
                <a:gridCol w="619200"/>
                <a:gridCol w="618840"/>
                <a:gridCol w="621000"/>
                <a:gridCol w="618840"/>
                <a:gridCol w="619200"/>
                <a:gridCol w="620640"/>
                <a:gridCol w="6192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Text Box 68"/>
          <p:cNvSpPr/>
          <p:nvPr/>
        </p:nvSpPr>
        <p:spPr>
          <a:xfrm>
            <a:off x="0" y="134136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69"/>
          <p:cNvSpPr/>
          <p:nvPr/>
        </p:nvSpPr>
        <p:spPr>
          <a:xfrm>
            <a:off x="3564000" y="134136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neu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70"/>
          <p:cNvSpPr/>
          <p:nvPr/>
        </p:nvSpPr>
        <p:spPr>
          <a:xfrm>
            <a:off x="8028000" y="13413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71"/>
          <p:cNvSpPr/>
          <p:nvPr/>
        </p:nvSpPr>
        <p:spPr>
          <a:xfrm flipV="1">
            <a:off x="324000" y="83628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72"/>
          <p:cNvSpPr/>
          <p:nvPr/>
        </p:nvSpPr>
        <p:spPr>
          <a:xfrm flipV="1">
            <a:off x="4067280" y="83628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73"/>
          <p:cNvSpPr/>
          <p:nvPr/>
        </p:nvSpPr>
        <p:spPr>
          <a:xfrm flipV="1">
            <a:off x="8388360" y="765000"/>
            <a:ext cx="0" cy="648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74"/>
          <p:cNvSpPr/>
          <p:nvPr/>
        </p:nvSpPr>
        <p:spPr>
          <a:xfrm>
            <a:off x="179280" y="21337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nything less than 7 on the pH scale is called an ac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75"/>
          <p:cNvSpPr/>
          <p:nvPr/>
        </p:nvSpPr>
        <p:spPr>
          <a:xfrm flipH="1">
            <a:off x="1295280" y="4292640"/>
            <a:ext cx="1152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76"/>
          <p:cNvSpPr/>
          <p:nvPr/>
        </p:nvSpPr>
        <p:spPr>
          <a:xfrm>
            <a:off x="2448000" y="414828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eak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77"/>
          <p:cNvSpPr/>
          <p:nvPr/>
        </p:nvSpPr>
        <p:spPr>
          <a:xfrm>
            <a:off x="179280" y="4124160"/>
            <a:ext cx="1258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tr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78"/>
          <p:cNvSpPr/>
          <p:nvPr/>
        </p:nvSpPr>
        <p:spPr>
          <a:xfrm>
            <a:off x="3492360" y="2708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6d1ec"/>
                </a:solidFill>
                <a:latin typeface="Arial"/>
              </a:rPr>
              <a:t>neu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79"/>
          <p:cNvSpPr/>
          <p:nvPr/>
        </p:nvSpPr>
        <p:spPr>
          <a:xfrm>
            <a:off x="4140360" y="3141720"/>
            <a:ext cx="0" cy="287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34"/>
          <p:cNvSpPr/>
          <p:nvPr/>
        </p:nvSpPr>
        <p:spPr>
          <a:xfrm>
            <a:off x="216000" y="0"/>
            <a:ext cx="88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0" y="936720"/>
          <a:ext cx="8675640" cy="641160"/>
        </p:xfrm>
        <a:graphic>
          <a:graphicData uri="http://schemas.openxmlformats.org/drawingml/2006/table">
            <a:tbl>
              <a:tblPr/>
              <a:tblGrid>
                <a:gridCol w="619200"/>
                <a:gridCol w="620640"/>
                <a:gridCol w="619200"/>
                <a:gridCol w="619200"/>
                <a:gridCol w="620640"/>
                <a:gridCol w="619200"/>
                <a:gridCol w="620640"/>
                <a:gridCol w="619200"/>
                <a:gridCol w="618840"/>
                <a:gridCol w="621000"/>
                <a:gridCol w="618840"/>
                <a:gridCol w="619200"/>
                <a:gridCol w="620640"/>
                <a:gridCol w="61920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Text Box 67"/>
          <p:cNvSpPr/>
          <p:nvPr/>
        </p:nvSpPr>
        <p:spPr>
          <a:xfrm>
            <a:off x="612720" y="458136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68"/>
          <p:cNvSpPr/>
          <p:nvPr/>
        </p:nvSpPr>
        <p:spPr>
          <a:xfrm>
            <a:off x="0" y="194472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69"/>
          <p:cNvSpPr/>
          <p:nvPr/>
        </p:nvSpPr>
        <p:spPr>
          <a:xfrm>
            <a:off x="3564000" y="194472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neu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70"/>
          <p:cNvSpPr/>
          <p:nvPr/>
        </p:nvSpPr>
        <p:spPr>
          <a:xfrm>
            <a:off x="8028000" y="194472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71"/>
          <p:cNvSpPr/>
          <p:nvPr/>
        </p:nvSpPr>
        <p:spPr>
          <a:xfrm flipV="1">
            <a:off x="324000" y="143964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72"/>
          <p:cNvSpPr/>
          <p:nvPr/>
        </p:nvSpPr>
        <p:spPr>
          <a:xfrm flipV="1">
            <a:off x="4067280" y="143964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73"/>
          <p:cNvSpPr/>
          <p:nvPr/>
        </p:nvSpPr>
        <p:spPr>
          <a:xfrm flipV="1">
            <a:off x="8388360" y="136800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74"/>
          <p:cNvSpPr/>
          <p:nvPr/>
        </p:nvSpPr>
        <p:spPr>
          <a:xfrm>
            <a:off x="0" y="2708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ndicators can also tell us how many OH- ions a base will give off and this gives us an indication of how basic a solution i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68360" y="4292640"/>
          <a:ext cx="8675640" cy="641160"/>
        </p:xfrm>
        <a:graphic>
          <a:graphicData uri="http://schemas.openxmlformats.org/drawingml/2006/table">
            <a:tbl>
              <a:tblPr/>
              <a:tblGrid>
                <a:gridCol w="619200"/>
                <a:gridCol w="620640"/>
                <a:gridCol w="619200"/>
                <a:gridCol w="618840"/>
                <a:gridCol w="621000"/>
                <a:gridCol w="618840"/>
                <a:gridCol w="621000"/>
                <a:gridCol w="618840"/>
                <a:gridCol w="619200"/>
                <a:gridCol w="620640"/>
                <a:gridCol w="619200"/>
                <a:gridCol w="619200"/>
                <a:gridCol w="620640"/>
                <a:gridCol w="61920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5c9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66"/>
                    </a:solidFill>
                  </a:tcPr>
                </a:tc>
              </a:tr>
            </a:tbl>
          </a:graphicData>
        </a:graphic>
      </p:graphicFrame>
      <p:sp>
        <p:nvSpPr>
          <p:cNvPr id="369" name="Line 107"/>
          <p:cNvSpPr/>
          <p:nvPr/>
        </p:nvSpPr>
        <p:spPr>
          <a:xfrm>
            <a:off x="6300720" y="5300640"/>
            <a:ext cx="10429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108"/>
          <p:cNvSpPr/>
          <p:nvPr/>
        </p:nvSpPr>
        <p:spPr>
          <a:xfrm>
            <a:off x="4932360" y="5084640"/>
            <a:ext cx="107964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9"/>
          <p:cNvSpPr/>
          <p:nvPr/>
        </p:nvSpPr>
        <p:spPr>
          <a:xfrm>
            <a:off x="7885080" y="5013360"/>
            <a:ext cx="125892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tr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10"/>
          <p:cNvSpPr/>
          <p:nvPr/>
        </p:nvSpPr>
        <p:spPr>
          <a:xfrm>
            <a:off x="3851280" y="3645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6d1ec"/>
                </a:solidFill>
                <a:latin typeface="Arial"/>
              </a:rPr>
              <a:t>neu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111"/>
          <p:cNvSpPr/>
          <p:nvPr/>
        </p:nvSpPr>
        <p:spPr>
          <a:xfrm>
            <a:off x="4429080" y="4149720"/>
            <a:ext cx="0" cy="287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http://www.bbc.co.uk/schools/gcsebitesize/science/images/gcsechem_59.jpg"/>
          <p:cNvPicPr/>
          <p:nvPr/>
        </p:nvPicPr>
        <p:blipFill>
          <a:blip r:embed="rId1"/>
          <a:stretch/>
        </p:blipFill>
        <p:spPr>
          <a:xfrm>
            <a:off x="571680" y="1714680"/>
            <a:ext cx="3400200" cy="2295360"/>
          </a:xfrm>
          <a:prstGeom prst="rect">
            <a:avLst/>
          </a:prstGeom>
          <a:ln w="0">
            <a:noFill/>
          </a:ln>
        </p:spPr>
      </p:pic>
      <p:sp>
        <p:nvSpPr>
          <p:cNvPr id="375" name="TextBox 3"/>
          <p:cNvSpPr/>
          <p:nvPr/>
        </p:nvSpPr>
        <p:spPr>
          <a:xfrm>
            <a:off x="4357800" y="1571760"/>
            <a:ext cx="207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hich beaker contains the acid and which one contains the b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Box 4"/>
          <p:cNvSpPr/>
          <p:nvPr/>
        </p:nvSpPr>
        <p:spPr>
          <a:xfrm>
            <a:off x="571680" y="7858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Beake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Blue litm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2357280" y="785880"/>
            <a:ext cx="16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Beake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Red litm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2350440" y="4048200"/>
            <a:ext cx="9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528480" y="404820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8"/>
          <p:cNvSpPr/>
          <p:nvPr/>
        </p:nvSpPr>
        <p:spPr>
          <a:xfrm>
            <a:off x="500040" y="4643280"/>
            <a:ext cx="700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Which beaker has more OH- 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Which beaker has more H+ ion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1453680" y="40719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(H+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3412440" y="407196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(OH-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Box 11"/>
          <p:cNvSpPr/>
          <p:nvPr/>
        </p:nvSpPr>
        <p:spPr>
          <a:xfrm>
            <a:off x="142920" y="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Litmus paper is another indic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11"/>
          <p:cNvSpPr/>
          <p:nvPr/>
        </p:nvSpPr>
        <p:spPr>
          <a:xfrm>
            <a:off x="6715080" y="3811680"/>
            <a:ext cx="242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Remember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99ccff"/>
                </a:solidFill>
                <a:latin typeface="Arial"/>
              </a:rPr>
              <a:t>blue litmus paper tests for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3300"/>
                </a:solidFill>
                <a:latin typeface="Arial"/>
              </a:rPr>
              <a:t>Red litmus tests for  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1"/>
          <p:cNvSpPr/>
          <p:nvPr/>
        </p:nvSpPr>
        <p:spPr>
          <a:xfrm>
            <a:off x="357120" y="142920"/>
            <a:ext cx="7500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Litmus paper can also tell us Whether we Have an Acid or a b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Litmus paper can be </a:t>
            </a:r>
            <a:r>
              <a:rPr b="0" lang="en-NZ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0" lang="en-NZ" sz="2800" spc="-1" strike="noStrike">
                <a:solidFill>
                  <a:srgbClr val="99ccff"/>
                </a:solidFill>
                <a:latin typeface="Comic Sans MS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Acids turn blue litmus paper 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Bases turn red litmus paper b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2" descr="http://www.bbc.co.uk/schools/gcsebitesize/science/images/gcsechem_59.jpg"/>
          <p:cNvPicPr/>
          <p:nvPr/>
        </p:nvPicPr>
        <p:blipFill>
          <a:blip r:embed="rId1"/>
          <a:stretch/>
        </p:blipFill>
        <p:spPr>
          <a:xfrm>
            <a:off x="2357280" y="4071960"/>
            <a:ext cx="34005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Neutralis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67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ydroxide (OH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) ions are the opposite to H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hen there are equal amounts of H+ and OH- ions in a solution they will react to form pure water (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) in a neutralisation reaction – the neutralisation reaction is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+    OH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   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 (water is neutral and has a pH of 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4"/>
          <p:cNvSpPr/>
          <p:nvPr/>
        </p:nvSpPr>
        <p:spPr>
          <a:xfrm>
            <a:off x="2286000" y="3571920"/>
            <a:ext cx="647640" cy="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285840" y="478620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99ff33"/>
                </a:solidFill>
                <a:uFillTx/>
                <a:latin typeface="Arial"/>
              </a:rPr>
              <a:t>So bases eg NaOH, KOH can neutralise acid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357120" y="5572080"/>
            <a:ext cx="8501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99ff33"/>
                </a:solidFill>
                <a:uFillTx/>
                <a:latin typeface="Arial"/>
              </a:rPr>
              <a:t>and acids eg HCl,H</a:t>
            </a:r>
            <a:r>
              <a:rPr b="1" lang="en-NZ" sz="2800" spc="-1" strike="noStrike" u="sng" baseline="-25000">
                <a:solidFill>
                  <a:srgbClr val="99ff33"/>
                </a:solidFill>
                <a:uFillTx/>
                <a:latin typeface="Arial"/>
              </a:rPr>
              <a:t>2</a:t>
            </a:r>
            <a:r>
              <a:rPr b="1" lang="en-NZ" sz="2800" spc="-1" strike="noStrike" u="sng">
                <a:solidFill>
                  <a:srgbClr val="99ff33"/>
                </a:solidFill>
                <a:uFillTx/>
                <a:latin typeface="Arial"/>
              </a:rPr>
              <a:t>SO</a:t>
            </a:r>
            <a:r>
              <a:rPr b="1" lang="en-NZ" sz="2800" spc="-1" strike="noStrike" u="sng" baseline="-25000">
                <a:solidFill>
                  <a:srgbClr val="99ff33"/>
                </a:solidFill>
                <a:uFillTx/>
                <a:latin typeface="Arial"/>
              </a:rPr>
              <a:t>4</a:t>
            </a:r>
            <a:r>
              <a:rPr b="1" lang="en-NZ" sz="2800" spc="-1" strike="noStrike" u="sng">
                <a:solidFill>
                  <a:srgbClr val="99ff33"/>
                </a:solidFill>
                <a:uFillTx/>
                <a:latin typeface="Arial"/>
              </a:rPr>
              <a:t> can neutralise bas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Box 6"/>
          <p:cNvSpPr/>
          <p:nvPr/>
        </p:nvSpPr>
        <p:spPr>
          <a:xfrm>
            <a:off x="285840" y="364320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66ff33"/>
                </a:solidFill>
                <a:latin typeface="Arial"/>
              </a:rPr>
              <a:t>From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1571760" y="3643200"/>
            <a:ext cx="7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66ff33"/>
                </a:solidFill>
                <a:latin typeface="Arial"/>
              </a:rPr>
              <a:t>From 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5"/>
          <p:cNvSpPr/>
          <p:nvPr/>
        </p:nvSpPr>
        <p:spPr>
          <a:xfrm>
            <a:off x="395280" y="159480"/>
            <a:ext cx="8136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Gas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ll carbonates eg _______ react with any acid to from C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(carbon dioxide) g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-101160" y="5084640"/>
            <a:ext cx="92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he limewater test bubbled CO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through lime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13" descr="limewater"/>
          <p:cNvPicPr/>
          <p:nvPr/>
        </p:nvPicPr>
        <p:blipFill>
          <a:blip r:embed="rId1"/>
          <a:stretch/>
        </p:blipFill>
        <p:spPr>
          <a:xfrm>
            <a:off x="6443640" y="342900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7"/>
          <p:cNvSpPr/>
          <p:nvPr/>
        </p:nvSpPr>
        <p:spPr>
          <a:xfrm>
            <a:off x="629280" y="4076640"/>
            <a:ext cx="454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How do you test for CO</a:t>
            </a:r>
            <a:r>
              <a:rPr b="1" lang="en-GB" sz="2800" spc="-1" strike="noStrike" baseline="-25000">
                <a:solidFill>
                  <a:srgbClr val="00ff00"/>
                </a:solidFill>
                <a:latin typeface="Comic Sans MS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8"/>
          <p:cNvSpPr/>
          <p:nvPr/>
        </p:nvSpPr>
        <p:spPr>
          <a:xfrm>
            <a:off x="3643200" y="1000080"/>
            <a:ext cx="157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CaCO</a:t>
            </a:r>
            <a:r>
              <a:rPr b="1" lang="en-GB" sz="2800" spc="-1" strike="noStrike" baseline="-25000">
                <a:solidFill>
                  <a:srgbClr val="99ccff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684360" y="2276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Give a balanced equation for an acid/carbonate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10"/>
          <p:cNvSpPr/>
          <p:nvPr/>
        </p:nvSpPr>
        <p:spPr>
          <a:xfrm>
            <a:off x="3995640" y="314172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539640" y="2924280"/>
            <a:ext cx="806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CaCO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Tahoma"/>
              </a:rPr>
              <a:t>3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      +   </a:t>
            </a:r>
            <a:r>
              <a:rPr b="0" lang="en-NZ" sz="2400" spc="-1" strike="noStrike">
                <a:solidFill>
                  <a:srgbClr val="99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HCl                CaCl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   +   CO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    +   H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10"/>
          <p:cNvSpPr/>
          <p:nvPr/>
        </p:nvSpPr>
        <p:spPr>
          <a:xfrm>
            <a:off x="3780000" y="602280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3"/>
          <p:cNvSpPr/>
          <p:nvPr/>
        </p:nvSpPr>
        <p:spPr>
          <a:xfrm>
            <a:off x="324000" y="5805360"/>
            <a:ext cx="806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CO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    + Ca(OH)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                  CaCO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Tahoma"/>
              </a:rPr>
              <a:t>3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   +   2H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O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ask : write the chemical formula for sodium oxide in your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2202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tep on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rite out the two ions from the chart with their charges  ie   Na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and    O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2852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tep two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ke the two charges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(in other words are there the same number of (+) as (-)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a = +1  and    O = -2   no they don’t bal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0" y="5157720"/>
            <a:ext cx="19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tep thre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4788000" y="458136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Now the seesaw </a:t>
            </a:r>
            <a:r>
              <a:rPr b="1" i="1" lang="en-NZ" sz="2000" spc="-1" strike="noStrike">
                <a:solidFill>
                  <a:srgbClr val="ffffff"/>
                </a:solidFill>
                <a:latin typeface="Arial"/>
              </a:rPr>
              <a:t>doesn’t bal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Object 7"/>
          <p:cNvGraphicFramePr/>
          <p:nvPr/>
        </p:nvGraphicFramePr>
        <p:xfrm>
          <a:off x="2197080" y="4387680"/>
          <a:ext cx="2249640" cy="9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4387680"/>
                    <a:ext cx="22496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8"/>
          <p:cNvSpPr/>
          <p:nvPr/>
        </p:nvSpPr>
        <p:spPr>
          <a:xfrm>
            <a:off x="0" y="5734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You must add an extra Na+ ion to make the (+) and (-)  balance which ion do you think you will need to add to the seesa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"/>
          <p:cNvSpPr/>
          <p:nvPr/>
        </p:nvSpPr>
        <p:spPr>
          <a:xfrm>
            <a:off x="84960" y="765000"/>
            <a:ext cx="601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How do you test for O</a:t>
            </a:r>
            <a:r>
              <a:rPr b="1" lang="en-GB" sz="2800" spc="-1" strike="noStrike" baseline="-25000">
                <a:solidFill>
                  <a:srgbClr val="00ff00"/>
                </a:solidFill>
                <a:latin typeface="Comic Sans MS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? (Oxyg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480600" y="2060640"/>
            <a:ext cx="42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he glowing splint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15" descr="relightgood"/>
          <p:cNvPicPr/>
          <p:nvPr/>
        </p:nvPicPr>
        <p:blipFill>
          <a:blip r:embed="rId1"/>
          <a:stretch/>
        </p:blipFill>
        <p:spPr>
          <a:xfrm>
            <a:off x="6527880" y="1484280"/>
            <a:ext cx="2616120" cy="1962360"/>
          </a:xfrm>
          <a:prstGeom prst="rect">
            <a:avLst/>
          </a:prstGeom>
          <a:ln w="0">
            <a:noFill/>
          </a:ln>
        </p:spPr>
      </p:pic>
      <p:sp>
        <p:nvSpPr>
          <p:cNvPr id="407" name="Line 7"/>
          <p:cNvSpPr/>
          <p:nvPr/>
        </p:nvSpPr>
        <p:spPr>
          <a:xfrm>
            <a:off x="3419640" y="400536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611280" y="3789360"/>
            <a:ext cx="70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KMnO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4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                MnO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   +    O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"/>
          <p:cNvSpPr/>
          <p:nvPr/>
        </p:nvSpPr>
        <p:spPr>
          <a:xfrm>
            <a:off x="343080" y="476280"/>
            <a:ext cx="753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Finally how do you test for H</a:t>
            </a:r>
            <a:r>
              <a:rPr b="1" lang="en-GB" sz="2800" spc="-1" strike="noStrike" baseline="-25000">
                <a:solidFill>
                  <a:srgbClr val="00ff00"/>
                </a:solidFill>
                <a:latin typeface="Comic Sans MS"/>
                <a:ea typeface="Times New Roman"/>
              </a:rPr>
              <a:t>2 </a:t>
            </a:r>
            <a:r>
              <a:rPr b="1" lang="en-GB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(hydrogen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704880" y="141300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he pop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7"/>
          <p:cNvSpPr/>
          <p:nvPr/>
        </p:nvSpPr>
        <p:spPr>
          <a:xfrm>
            <a:off x="3635280" y="335772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0" y="2133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Give a balanced reaction for the magnesium and hydrochloric acid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611280" y="3141720"/>
            <a:ext cx="70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Mg +  2HCl                MgCl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   +    H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95280" y="4365720"/>
            <a:ext cx="76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Give a balanced  reaction for the combustion of the hydro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403280" y="620640"/>
          <a:ext cx="6096240" cy="56689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ysical Property of me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le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s the metal can be b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ct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s the metal can be made into wi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ductiv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ducts both heat and electric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stro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in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are solid except H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16" name="TextBox 2"/>
          <p:cNvSpPr/>
          <p:nvPr/>
        </p:nvSpPr>
        <p:spPr>
          <a:xfrm>
            <a:off x="684360" y="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en-NZ" sz="3600" spc="-1" strike="noStrike">
                <a:solidFill>
                  <a:srgbClr val="ffffff"/>
                </a:solidFill>
                <a:latin typeface="Calibri"/>
              </a:rPr>
              <a:t>Physical Properties of met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Metal Structur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0920" y="443700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al consists of a regular arrangement of positive ions held together by a 'sea' of electr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9" name="Object 4"/>
          <p:cNvGraphicFramePr/>
          <p:nvPr/>
        </p:nvGraphicFramePr>
        <p:xfrm>
          <a:off x="684360" y="1268280"/>
          <a:ext cx="7991280" cy="297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268280"/>
                    <a:ext cx="7991280" cy="29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Metal structure Star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1"/>
          <p:cNvSpPr/>
          <p:nvPr/>
        </p:nvSpPr>
        <p:spPr>
          <a:xfrm>
            <a:off x="357120" y="1709640"/>
            <a:ext cx="8501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etals consist of p______ metal ions surrounded by n______ electr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he attraction of the e_______ for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_____ ions acts like a glue that holds metals atoms toge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395280" y="189000"/>
            <a:ext cx="807732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 Black"/>
              </a:rPr>
              <a:t>Activ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n the periodic table in your book colour  the metals red and nonmetals bl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eave the metalliods (these are elements found on the border line between the metals and non metals) whi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380880" y="2946240"/>
            <a:ext cx="8305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Give names to the following metal symbo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l  -                               Zn -                          Ag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Ni -     </a:t>
            </a:r>
            <a:r>
              <a:rPr b="0" lang="en-NZ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 Unicode MS"/>
              </a:rPr>
              <a:t>                          Ca -                          Cu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 Unicode MS"/>
              </a:rPr>
              <a:t>Fe -</a:t>
            </a:r>
            <a:r>
              <a:rPr b="0" lang="en-NZ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 Unicode MS"/>
              </a:rPr>
              <a:t>                Li -                           Mg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 Unicode MS"/>
              </a:rPr>
              <a:t>Pb -</a:t>
            </a:r>
            <a:r>
              <a:rPr b="0" lang="en-NZ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 Unicode MS"/>
              </a:rPr>
              <a:t>                Na -                          Au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1258920" y="6165720"/>
            <a:ext cx="20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1042920" y="3500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 Unicode MS"/>
              </a:rPr>
              <a:t>Alumin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116000" y="4076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 Unicode MS"/>
              </a:rPr>
              <a:t>Nick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7"/>
          <p:cNvSpPr/>
          <p:nvPr/>
        </p:nvSpPr>
        <p:spPr>
          <a:xfrm>
            <a:off x="1116000" y="4581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 Unicode MS"/>
              </a:rPr>
              <a:t>I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1116000" y="5156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 Unicode MS"/>
              </a:rPr>
              <a:t>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4140360" y="40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 Unicode MS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1619280" y="5587920"/>
            <a:ext cx="16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211640" y="3500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 Unicode MS"/>
              </a:rPr>
              <a:t>Zin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4140360" y="458136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 Unicode MS"/>
              </a:rPr>
              <a:t>Lith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4284720" y="5156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 Unicode MS"/>
              </a:rPr>
              <a:t>S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4"/>
          <p:cNvSpPr/>
          <p:nvPr/>
        </p:nvSpPr>
        <p:spPr>
          <a:xfrm>
            <a:off x="7020000" y="3500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 Unicode MS"/>
              </a:rPr>
              <a:t>Sil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5"/>
          <p:cNvSpPr/>
          <p:nvPr/>
        </p:nvSpPr>
        <p:spPr>
          <a:xfrm>
            <a:off x="7093080" y="4005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 Unicode MS"/>
              </a:rPr>
              <a:t>Co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6"/>
          <p:cNvSpPr/>
          <p:nvPr/>
        </p:nvSpPr>
        <p:spPr>
          <a:xfrm>
            <a:off x="7020000" y="458136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 Unicode MS"/>
              </a:rPr>
              <a:t>Magne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7"/>
          <p:cNvSpPr/>
          <p:nvPr/>
        </p:nvSpPr>
        <p:spPr>
          <a:xfrm>
            <a:off x="7020000" y="5156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 Unicode MS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Metal Structur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-360" y="1285560"/>
            <a:ext cx="41799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consists of positive ions held together by a 'sea' of electr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lectrons account for the lustrous appearance of me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the electrons can move freely they conduct electricity, however the positive ions can only vibrate in the one spot. This means metals also conduct heat as w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1" name="Object 4"/>
          <p:cNvGraphicFramePr/>
          <p:nvPr/>
        </p:nvGraphicFramePr>
        <p:xfrm>
          <a:off x="4140360" y="1916280"/>
          <a:ext cx="4787640" cy="178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40360" y="1916280"/>
                    <a:ext cx="478764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Text Box 5"/>
          <p:cNvSpPr/>
          <p:nvPr/>
        </p:nvSpPr>
        <p:spPr>
          <a:xfrm>
            <a:off x="4284720" y="3933720"/>
            <a:ext cx="4537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00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This type of metal bonding between positive ions and electrons in metals is strong giving metals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Object 2"/>
          <p:cNvGraphicFramePr/>
          <p:nvPr/>
        </p:nvGraphicFramePr>
        <p:xfrm>
          <a:off x="539640" y="1628640"/>
          <a:ext cx="6035760" cy="36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603576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Rectangle 3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Why metals conduct he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611280" y="566100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Demo by heating spatula with paper clips attached by vaso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6732720" y="1916280"/>
            <a:ext cx="201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particle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n this passage refers to the 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metal ions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1692360" y="1773360"/>
          <a:ext cx="546732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73360"/>
                    <a:ext cx="546732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Rectangle 3"/>
          <p:cNvSpPr/>
          <p:nvPr/>
        </p:nvSpPr>
        <p:spPr>
          <a:xfrm>
            <a:off x="254160" y="4107960"/>
            <a:ext cx="893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 metallic bonds do not act in a particular direction,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ws of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positive ions can slide over one another easi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allows the metal to be bent or shaped. This structure all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to be bent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lle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or made into wires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ct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900000" y="26028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Why most metals can be bent or shap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Metal structure Star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1"/>
          <p:cNvSpPr/>
          <p:nvPr/>
        </p:nvSpPr>
        <p:spPr>
          <a:xfrm>
            <a:off x="357120" y="1709640"/>
            <a:ext cx="8501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etals consist of p______ metal ions surrounded by n______ electr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he attraction of the e_______ for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_____ ions acts like a glue that holds metals atoms toge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50920" y="26028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Yes you are correct you need to add one Na</a:t>
            </a:r>
            <a:r>
              <a:rPr b="1" lang="en-NZ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to the left hand side of the sees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Object 3"/>
          <p:cNvGraphicFramePr/>
          <p:nvPr/>
        </p:nvGraphicFramePr>
        <p:xfrm>
          <a:off x="1835280" y="1484280"/>
          <a:ext cx="4032000" cy="19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484280"/>
                    <a:ext cx="4032000" cy="19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4"/>
          <p:cNvSpPr/>
          <p:nvPr/>
        </p:nvSpPr>
        <p:spPr>
          <a:xfrm>
            <a:off x="468360" y="3933720"/>
            <a:ext cx="792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ff"/>
                </a:solidFill>
                <a:latin typeface="Arial"/>
              </a:rPr>
              <a:t>Now you write the formula for sodium oxide as Na</a:t>
            </a:r>
            <a:r>
              <a:rPr b="1" lang="en-NZ" sz="24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50920" y="4653000"/>
            <a:ext cx="83534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This tells us in each particle of sodium oxide (Na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O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There are two Na</a:t>
            </a:r>
            <a:r>
              <a:rPr b="1" lang="en-NZ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ions and one O</a:t>
            </a:r>
            <a:r>
              <a:rPr b="1" lang="en-NZ" sz="2400" spc="-1" strike="noStrike" baseline="30000">
                <a:solidFill>
                  <a:srgbClr val="ffff00"/>
                </a:solidFill>
                <a:latin typeface="Arial"/>
              </a:rPr>
              <a:t>2-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Isoto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sotope is an atom with a different number of neu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bove are all naturally occurring isotopes of hyd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4"/>
              <p:cNvSpPr txBox="1"/>
              <p:nvPr/>
            </p:nvSpPr>
            <p:spPr>
              <a:xfrm>
                <a:off x="900000" y="3225960"/>
                <a:ext cx="7561440" cy="16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Pr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  Hydroge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 proton, 1 electron</m:t>
                        </m:r>
                        <m:r>
                          <m:t xml:space="preserve">)</m:t>
                        </m:r>
                      </m:e>
                      <m:e>
                        <m:sPr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rPr>
                            <m:lit/>
                            <m:nor/>
                          </m:rPr>
                          <m:t xml:space="preserve">H  Deuteriu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 proton, 1 neutron, 1 elctron</m:t>
                        </m:r>
                        <m:r>
                          <m:t xml:space="preserve">)</m:t>
                        </m:r>
                      </m:e>
                      <m:e>
                        <m:sPr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  Tritium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 proton, 2 neutrons, 1 electron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66ff33"/>
                </a:solidFill>
                <a:latin typeface="Arial"/>
              </a:rPr>
              <a:t>Metals and oxygen What is Ru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399960" y="1225440"/>
            <a:ext cx="7993080" cy="38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Rust only occurs with iron (Fe) met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Rusting is where iron reacts with oxygen in the air to form  rust (also known as iron oxide Fe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To from rust iron, water and oxygen must be pres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Rust is always noticed by a reddish brown layer occurring on the surface of the ir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5" descr="j0289818"/>
          <p:cNvPicPr/>
          <p:nvPr/>
        </p:nvPicPr>
        <p:blipFill>
          <a:blip r:embed="rId1"/>
          <a:stretch/>
        </p:blipFill>
        <p:spPr>
          <a:xfrm>
            <a:off x="2357280" y="5021280"/>
            <a:ext cx="3807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0769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Summary – Metal Re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Group 4"/>
          <p:cNvGrpSpPr/>
          <p:nvPr/>
        </p:nvGrpSpPr>
        <p:grpSpPr>
          <a:xfrm>
            <a:off x="539640" y="2995560"/>
            <a:ext cx="8604000" cy="520560"/>
            <a:chOff x="539640" y="2995560"/>
            <a:chExt cx="8604000" cy="520560"/>
          </a:xfrm>
        </p:grpSpPr>
        <p:sp>
          <p:nvSpPr>
            <p:cNvPr id="464" name="Text Box 5"/>
            <p:cNvSpPr/>
            <p:nvPr/>
          </p:nvSpPr>
          <p:spPr>
            <a:xfrm>
              <a:off x="539640" y="2995560"/>
              <a:ext cx="8604000" cy="52056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NZ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metal </a:t>
              </a:r>
              <a:r>
                <a:rPr b="1" lang="en-NZ" sz="2800" spc="-1" strike="noStrike">
                  <a:solidFill>
                    <a:srgbClr val="000000"/>
                  </a:solidFill>
                  <a:latin typeface="Arial"/>
                </a:rPr>
                <a:t>       +       </a:t>
              </a:r>
              <a:r>
                <a:rPr b="1" lang="en-NZ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oxygen  </a:t>
              </a:r>
              <a:r>
                <a:rPr b="1" lang="en-NZ" sz="2800" spc="-1" strike="noStrike">
                  <a:solidFill>
                    <a:srgbClr val="000000"/>
                  </a:solidFill>
                  <a:latin typeface="Arial"/>
                </a:rPr>
                <a:t>                     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6"/>
            <p:cNvSpPr/>
            <p:nvPr/>
          </p:nvSpPr>
          <p:spPr>
            <a:xfrm>
              <a:off x="5219280" y="3283200"/>
              <a:ext cx="936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Rectangle 28"/>
          <p:cNvSpPr/>
          <p:nvPr/>
        </p:nvSpPr>
        <p:spPr>
          <a:xfrm>
            <a:off x="6506640" y="301140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metal ox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16"/>
          <p:cNvSpPr/>
          <p:nvPr/>
        </p:nvSpPr>
        <p:spPr>
          <a:xfrm>
            <a:off x="468360" y="4292640"/>
            <a:ext cx="20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34"/>
          <p:cNvSpPr/>
          <p:nvPr/>
        </p:nvSpPr>
        <p:spPr>
          <a:xfrm>
            <a:off x="1763640" y="42926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+    oxygen                    aluminium ox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37"/>
          <p:cNvSpPr/>
          <p:nvPr/>
        </p:nvSpPr>
        <p:spPr>
          <a:xfrm>
            <a:off x="4572000" y="4581360"/>
            <a:ext cx="1008000" cy="180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395280" y="20606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Metals and oxygen – gener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25"/>
          <p:cNvSpPr/>
          <p:nvPr/>
        </p:nvSpPr>
        <p:spPr>
          <a:xfrm>
            <a:off x="539640" y="371628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4"/>
          <p:cNvGrpSpPr/>
          <p:nvPr/>
        </p:nvGrpSpPr>
        <p:grpSpPr>
          <a:xfrm>
            <a:off x="250920" y="1484280"/>
            <a:ext cx="8604000" cy="459720"/>
            <a:chOff x="250920" y="1484280"/>
            <a:chExt cx="8604000" cy="459720"/>
          </a:xfrm>
        </p:grpSpPr>
        <p:sp>
          <p:nvSpPr>
            <p:cNvPr id="473" name="Text Box 5"/>
            <p:cNvSpPr/>
            <p:nvPr/>
          </p:nvSpPr>
          <p:spPr>
            <a:xfrm>
              <a:off x="250920" y="1484280"/>
              <a:ext cx="8604000" cy="4597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NZ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metal 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       +       </a:t>
              </a:r>
              <a:r>
                <a:rPr b="1" lang="en-NZ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oxygen  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                     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6"/>
            <p:cNvSpPr/>
            <p:nvPr/>
          </p:nvSpPr>
          <p:spPr>
            <a:xfrm>
              <a:off x="4930560" y="1771560"/>
              <a:ext cx="936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Text Box 9"/>
          <p:cNvSpPr/>
          <p:nvPr/>
        </p:nvSpPr>
        <p:spPr>
          <a:xfrm>
            <a:off x="357120" y="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Use the general reaction below to write both </a:t>
            </a:r>
            <a:r>
              <a:rPr b="1" lang="en-NZ" sz="2400" spc="-1" strike="noStrike" u="sng">
                <a:solidFill>
                  <a:srgbClr val="ffffff"/>
                </a:solidFill>
                <a:uFillTx/>
                <a:latin typeface="Arial"/>
              </a:rPr>
              <a:t>word equations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then </a:t>
            </a:r>
            <a:r>
              <a:rPr b="0" lang="en-NZ" sz="2400" spc="-1" strike="noStrike" u="sng">
                <a:solidFill>
                  <a:srgbClr val="ffffff"/>
                </a:solidFill>
                <a:uFillTx/>
                <a:latin typeface="Arial"/>
              </a:rPr>
              <a:t>symbol equations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or each of the metals reacting with oxyg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274680" y="35002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285840" y="20718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0" y="5072040"/>
            <a:ext cx="18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gne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18"/>
          <p:cNvSpPr/>
          <p:nvPr/>
        </p:nvSpPr>
        <p:spPr>
          <a:xfrm>
            <a:off x="2014560" y="2060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   oxygen                                       sodium 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19"/>
          <p:cNvSpPr/>
          <p:nvPr/>
        </p:nvSpPr>
        <p:spPr>
          <a:xfrm>
            <a:off x="3924360" y="227664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24"/>
          <p:cNvSpPr/>
          <p:nvPr/>
        </p:nvSpPr>
        <p:spPr>
          <a:xfrm>
            <a:off x="16430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   oxygen                                       calcium 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30"/>
          <p:cNvSpPr/>
          <p:nvPr/>
        </p:nvSpPr>
        <p:spPr>
          <a:xfrm>
            <a:off x="1785960" y="50720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   oxygen                               magnesium 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35"/>
          <p:cNvSpPr/>
          <p:nvPr/>
        </p:nvSpPr>
        <p:spPr>
          <a:xfrm>
            <a:off x="3801960" y="371628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36"/>
          <p:cNvSpPr/>
          <p:nvPr/>
        </p:nvSpPr>
        <p:spPr>
          <a:xfrm>
            <a:off x="3838680" y="528804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6224760" y="1500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metal 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7"/>
          <p:cNvSpPr/>
          <p:nvPr/>
        </p:nvSpPr>
        <p:spPr>
          <a:xfrm>
            <a:off x="4214880" y="285768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500040" y="2643120"/>
            <a:ext cx="792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4Na +     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                            2Na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O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7"/>
          <p:cNvSpPr/>
          <p:nvPr/>
        </p:nvSpPr>
        <p:spPr>
          <a:xfrm>
            <a:off x="4286160" y="435780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571680" y="4143240"/>
            <a:ext cx="79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2Ca +     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                            2CaO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7"/>
          <p:cNvSpPr/>
          <p:nvPr/>
        </p:nvSpPr>
        <p:spPr>
          <a:xfrm>
            <a:off x="4071960" y="600084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357120" y="5786280"/>
            <a:ext cx="792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Mg +     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                            2MgO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3"/>
          <p:cNvSpPr/>
          <p:nvPr/>
        </p:nvSpPr>
        <p:spPr>
          <a:xfrm>
            <a:off x="203040" y="228600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zin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276120" y="564372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25440" y="38718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347760" y="7858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31"/>
          <p:cNvSpPr/>
          <p:nvPr/>
        </p:nvSpPr>
        <p:spPr>
          <a:xfrm>
            <a:off x="1571760" y="2286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   oxygen                                       zinc 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32"/>
          <p:cNvSpPr/>
          <p:nvPr/>
        </p:nvSpPr>
        <p:spPr>
          <a:xfrm>
            <a:off x="1428840" y="38577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   oxygen                                       iron 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33"/>
          <p:cNvSpPr/>
          <p:nvPr/>
        </p:nvSpPr>
        <p:spPr>
          <a:xfrm>
            <a:off x="1500120" y="564372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   oxygen                                       copper 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34"/>
          <p:cNvSpPr/>
          <p:nvPr/>
        </p:nvSpPr>
        <p:spPr>
          <a:xfrm>
            <a:off x="1857240" y="7858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   oxygen                                      aluminium 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37"/>
          <p:cNvSpPr/>
          <p:nvPr/>
        </p:nvSpPr>
        <p:spPr>
          <a:xfrm>
            <a:off x="4091040" y="100188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38"/>
          <p:cNvSpPr/>
          <p:nvPr/>
        </p:nvSpPr>
        <p:spPr>
          <a:xfrm>
            <a:off x="3803760" y="2502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39"/>
          <p:cNvSpPr/>
          <p:nvPr/>
        </p:nvSpPr>
        <p:spPr>
          <a:xfrm>
            <a:off x="3781440" y="401652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Line 40"/>
          <p:cNvSpPr/>
          <p:nvPr/>
        </p:nvSpPr>
        <p:spPr>
          <a:xfrm>
            <a:off x="3732120" y="5859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7"/>
          <p:cNvSpPr/>
          <p:nvPr/>
        </p:nvSpPr>
        <p:spPr>
          <a:xfrm>
            <a:off x="4214880" y="157176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9"/>
          <p:cNvSpPr/>
          <p:nvPr/>
        </p:nvSpPr>
        <p:spPr>
          <a:xfrm>
            <a:off x="500040" y="1357200"/>
            <a:ext cx="792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4Al +     3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                           2Al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3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Line 7"/>
          <p:cNvSpPr/>
          <p:nvPr/>
        </p:nvSpPr>
        <p:spPr>
          <a:xfrm>
            <a:off x="4357800" y="314316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642960" y="2928960"/>
            <a:ext cx="792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2Zn +     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                            2ZnO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7"/>
          <p:cNvSpPr/>
          <p:nvPr/>
        </p:nvSpPr>
        <p:spPr>
          <a:xfrm>
            <a:off x="4143240" y="478620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428760" y="4572000"/>
            <a:ext cx="79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4Fe +    3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                            2Fe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3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500040" y="6072120"/>
            <a:ext cx="792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2Cu +     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                            2CuO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00"/>
                </a:solidFill>
                <a:latin typeface="Arial"/>
              </a:rPr>
              <a:t>Experiment: metals and 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28400" y="1509480"/>
            <a:ext cx="82263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33"/>
                </a:solidFill>
                <a:latin typeface="Arial"/>
              </a:rPr>
              <a:t>Aim: to observe the reactions of metals with water and sort out which react faster than others page 129 yellow lab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395280" y="3143160"/>
            <a:ext cx="87487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66ff33"/>
                </a:solidFill>
                <a:latin typeface="Arial"/>
              </a:rPr>
              <a:t>The general reaction for a metal reacting with water i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metal + water                 metal hydroxide  +  hyd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5"/>
          <p:cNvSpPr/>
          <p:nvPr/>
        </p:nvSpPr>
        <p:spPr>
          <a:xfrm>
            <a:off x="2928960" y="4738680"/>
            <a:ext cx="1079640" cy="0"/>
          </a:xfrm>
          <a:prstGeom prst="line">
            <a:avLst/>
          </a:prstGeom>
          <a:ln w="316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7"/>
          <p:cNvSpPr/>
          <p:nvPr/>
        </p:nvSpPr>
        <p:spPr>
          <a:xfrm>
            <a:off x="4214880" y="557208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500040" y="5357880"/>
            <a:ext cx="835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eg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Na  +    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O                               NaOH   +   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NZ" sz="4400" spc="-1" strike="noStrike">
                <a:solidFill>
                  <a:srgbClr val="ffff00"/>
                </a:solidFill>
                <a:latin typeface="Arial"/>
              </a:rPr>
              <a:t>reaction mixture starter complete the follow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395280" y="3143160"/>
            <a:ext cx="87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Line 7"/>
          <p:cNvSpPr/>
          <p:nvPr/>
        </p:nvSpPr>
        <p:spPr>
          <a:xfrm>
            <a:off x="4143240" y="214308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9"/>
          <p:cNvSpPr/>
          <p:nvPr/>
        </p:nvSpPr>
        <p:spPr>
          <a:xfrm>
            <a:off x="571680" y="1928880"/>
            <a:ext cx="478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Li  +     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O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571680" y="2714760"/>
            <a:ext cx="478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Ca   +       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O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428760" y="5000760"/>
            <a:ext cx="564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Mg   +     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O (steam)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571680" y="6143760"/>
            <a:ext cx="535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Al   +    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O (steam)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7"/>
          <p:cNvSpPr/>
          <p:nvPr/>
        </p:nvSpPr>
        <p:spPr>
          <a:xfrm>
            <a:off x="4429080" y="292896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5000760" y="528624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Line 7"/>
          <p:cNvSpPr/>
          <p:nvPr/>
        </p:nvSpPr>
        <p:spPr>
          <a:xfrm>
            <a:off x="5143680" y="635796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9"/>
          <p:cNvSpPr/>
          <p:nvPr/>
        </p:nvSpPr>
        <p:spPr>
          <a:xfrm>
            <a:off x="642960" y="3500280"/>
            <a:ext cx="4643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Cu   +     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7"/>
          <p:cNvSpPr/>
          <p:nvPr/>
        </p:nvSpPr>
        <p:spPr>
          <a:xfrm>
            <a:off x="4500720" y="371484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9"/>
          <p:cNvSpPr/>
          <p:nvPr/>
        </p:nvSpPr>
        <p:spPr>
          <a:xfrm>
            <a:off x="500040" y="4214880"/>
            <a:ext cx="835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Fe   +    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                                 (rust forms)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7"/>
          <p:cNvSpPr/>
          <p:nvPr/>
        </p:nvSpPr>
        <p:spPr>
          <a:xfrm>
            <a:off x="3786120" y="442908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21"/>
          <p:cNvSpPr/>
          <p:nvPr/>
        </p:nvSpPr>
        <p:spPr>
          <a:xfrm>
            <a:off x="5913360" y="1928880"/>
            <a:ext cx="211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2LiOH   +   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22"/>
          <p:cNvSpPr/>
          <p:nvPr/>
        </p:nvSpPr>
        <p:spPr>
          <a:xfrm>
            <a:off x="5429160" y="2714760"/>
            <a:ext cx="333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Ca(OH)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+   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23"/>
          <p:cNvSpPr/>
          <p:nvPr/>
        </p:nvSpPr>
        <p:spPr>
          <a:xfrm>
            <a:off x="5691960" y="35002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2Cu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24"/>
          <p:cNvSpPr/>
          <p:nvPr/>
        </p:nvSpPr>
        <p:spPr>
          <a:xfrm>
            <a:off x="5137560" y="4214880"/>
            <a:ext cx="1123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2Fe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25"/>
          <p:cNvSpPr/>
          <p:nvPr/>
        </p:nvSpPr>
        <p:spPr>
          <a:xfrm>
            <a:off x="5752440" y="5072040"/>
            <a:ext cx="185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MgO  +   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26"/>
          <p:cNvSpPr/>
          <p:nvPr/>
        </p:nvSpPr>
        <p:spPr>
          <a:xfrm>
            <a:off x="5913000" y="6143760"/>
            <a:ext cx="204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Al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3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+   3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2784960" y="2714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28"/>
          <p:cNvSpPr/>
          <p:nvPr/>
        </p:nvSpPr>
        <p:spPr>
          <a:xfrm>
            <a:off x="1356120" y="350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29"/>
          <p:cNvSpPr/>
          <p:nvPr/>
        </p:nvSpPr>
        <p:spPr>
          <a:xfrm>
            <a:off x="1427760" y="4214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0"/>
          <p:cNvSpPr/>
          <p:nvPr/>
        </p:nvSpPr>
        <p:spPr>
          <a:xfrm>
            <a:off x="2642040" y="4214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1"/>
          <p:cNvSpPr/>
          <p:nvPr/>
        </p:nvSpPr>
        <p:spPr>
          <a:xfrm>
            <a:off x="2571840" y="500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32"/>
          <p:cNvSpPr/>
          <p:nvPr/>
        </p:nvSpPr>
        <p:spPr>
          <a:xfrm>
            <a:off x="1498320" y="6143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33"/>
          <p:cNvSpPr/>
          <p:nvPr/>
        </p:nvSpPr>
        <p:spPr>
          <a:xfrm>
            <a:off x="2641320" y="6143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34"/>
          <p:cNvSpPr/>
          <p:nvPr/>
        </p:nvSpPr>
        <p:spPr>
          <a:xfrm>
            <a:off x="1356120" y="1928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35"/>
          <p:cNvSpPr/>
          <p:nvPr/>
        </p:nvSpPr>
        <p:spPr>
          <a:xfrm>
            <a:off x="2427840" y="1928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00"/>
                </a:solidFill>
                <a:latin typeface="Arial"/>
              </a:rPr>
              <a:t>Experiment: metals and aci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2263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33"/>
                </a:solidFill>
                <a:latin typeface="Arial"/>
              </a:rPr>
              <a:t>Aim: to observe the reactions of metals with acid and sort out which react faster than others (</a:t>
            </a:r>
            <a:r>
              <a:rPr b="0" lang="en-NZ" sz="3200" spc="-1" strike="noStrike">
                <a:solidFill>
                  <a:srgbClr val="ffff00"/>
                </a:solidFill>
                <a:latin typeface="Arial"/>
              </a:rPr>
              <a:t>that is - which ones are more reactive</a:t>
            </a:r>
            <a:r>
              <a:rPr b="0" lang="en-NZ" sz="32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214200" y="3714840"/>
            <a:ext cx="874872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66ff33"/>
                </a:solidFill>
                <a:latin typeface="Arial"/>
              </a:rPr>
              <a:t>The general reaction for a metal reacting with an acid i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metal + acid                 metal salt  +  hyd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>
            <a:off x="2571840" y="5286240"/>
            <a:ext cx="1079280" cy="0"/>
          </a:xfrm>
          <a:prstGeom prst="line">
            <a:avLst/>
          </a:prstGeom>
          <a:ln w="316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4"/>
          <p:cNvSpPr/>
          <p:nvPr/>
        </p:nvSpPr>
        <p:spPr>
          <a:xfrm>
            <a:off x="0" y="0"/>
            <a:ext cx="91440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ffffcc"/>
                </a:solidFill>
                <a:uFillTx/>
                <a:latin typeface="Arial"/>
              </a:rPr>
              <a:t>Summa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ost metals will react with dilute acids to give off hydrogen gas and form a sa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 general formula for a metal acid reaction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5"/>
          <p:cNvSpPr/>
          <p:nvPr/>
        </p:nvSpPr>
        <p:spPr>
          <a:xfrm>
            <a:off x="3929040" y="3357720"/>
            <a:ext cx="647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17"/>
          <p:cNvSpPr/>
          <p:nvPr/>
        </p:nvSpPr>
        <p:spPr>
          <a:xfrm>
            <a:off x="950760" y="7167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17"/>
          <p:cNvSpPr/>
          <p:nvPr/>
        </p:nvSpPr>
        <p:spPr>
          <a:xfrm>
            <a:off x="151200" y="314316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Magnesium 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18"/>
          <p:cNvSpPr/>
          <p:nvPr/>
        </p:nvSpPr>
        <p:spPr>
          <a:xfrm>
            <a:off x="1928880" y="314316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hydrochloric aci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Rectangle 19"/>
          <p:cNvSpPr/>
          <p:nvPr/>
        </p:nvSpPr>
        <p:spPr>
          <a:xfrm>
            <a:off x="4643280" y="3143160"/>
            <a:ext cx="188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Magnesium  + chlori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20"/>
          <p:cNvSpPr/>
          <p:nvPr/>
        </p:nvSpPr>
        <p:spPr>
          <a:xfrm>
            <a:off x="6724440" y="314316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hydrogen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5"/>
          <p:cNvSpPr/>
          <p:nvPr/>
        </p:nvSpPr>
        <p:spPr>
          <a:xfrm>
            <a:off x="4071960" y="4643280"/>
            <a:ext cx="647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22"/>
          <p:cNvSpPr/>
          <p:nvPr/>
        </p:nvSpPr>
        <p:spPr>
          <a:xfrm>
            <a:off x="291600" y="44290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Iron       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2071800" y="44290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hydrochloric aci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4786200" y="4429080"/>
            <a:ext cx="20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Iron Chloride  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6867360" y="442908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hydrogen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4143240" y="5857920"/>
            <a:ext cx="6480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27"/>
          <p:cNvSpPr/>
          <p:nvPr/>
        </p:nvSpPr>
        <p:spPr>
          <a:xfrm>
            <a:off x="362880" y="564372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Zinc      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28"/>
          <p:cNvSpPr/>
          <p:nvPr/>
        </p:nvSpPr>
        <p:spPr>
          <a:xfrm>
            <a:off x="2143080" y="5643720"/>
            <a:ext cx="18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hydrochloric aci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29"/>
          <p:cNvSpPr/>
          <p:nvPr/>
        </p:nvSpPr>
        <p:spPr>
          <a:xfrm>
            <a:off x="4857840" y="5643720"/>
            <a:ext cx="221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Zinc Chloride  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30"/>
          <p:cNvSpPr/>
          <p:nvPr/>
        </p:nvSpPr>
        <p:spPr>
          <a:xfrm>
            <a:off x="6938640" y="564372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hydrogen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5"/>
          <p:cNvSpPr/>
          <p:nvPr/>
        </p:nvSpPr>
        <p:spPr>
          <a:xfrm>
            <a:off x="3214800" y="2214720"/>
            <a:ext cx="647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32"/>
          <p:cNvSpPr/>
          <p:nvPr/>
        </p:nvSpPr>
        <p:spPr>
          <a:xfrm>
            <a:off x="-2520" y="200016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66ff"/>
                </a:solidFill>
                <a:latin typeface="Arial"/>
              </a:rPr>
              <a:t>Metal     +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33"/>
          <p:cNvSpPr/>
          <p:nvPr/>
        </p:nvSpPr>
        <p:spPr>
          <a:xfrm>
            <a:off x="1785960" y="2000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ff66ff"/>
                </a:solidFill>
                <a:latin typeface="Arial"/>
              </a:rPr>
              <a:t>ac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34"/>
          <p:cNvSpPr/>
          <p:nvPr/>
        </p:nvSpPr>
        <p:spPr>
          <a:xfrm>
            <a:off x="4214880" y="2071800"/>
            <a:ext cx="21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66ff"/>
                </a:solidFill>
                <a:latin typeface="Arial"/>
              </a:rPr>
              <a:t>Metal salt   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35"/>
          <p:cNvSpPr/>
          <p:nvPr/>
        </p:nvSpPr>
        <p:spPr>
          <a:xfrm>
            <a:off x="6573960" y="207180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66ff"/>
                </a:solidFill>
                <a:latin typeface="Arial"/>
              </a:rPr>
              <a:t>hydrogen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36"/>
          <p:cNvSpPr/>
          <p:nvPr/>
        </p:nvSpPr>
        <p:spPr>
          <a:xfrm>
            <a:off x="142920" y="2571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Arial"/>
              </a:rPr>
              <a:t>Write word and  symbol equations for these acid metal reac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Line 4"/>
          <p:cNvSpPr/>
          <p:nvPr/>
        </p:nvSpPr>
        <p:spPr>
          <a:xfrm>
            <a:off x="4211640" y="162864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751320" y="266760"/>
            <a:ext cx="602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1143000"/>
                <a:tab algn="l" pos="1219320"/>
                <a:tab algn="l" pos="1371600"/>
                <a:tab algn="l" pos="1447920"/>
                <a:tab algn="l" pos="1600200"/>
                <a:tab algn="l" pos="2362320"/>
                <a:tab algn="l" pos="2971800"/>
                <a:tab algn="l" pos="3124080"/>
                <a:tab algn="l" pos="4419720"/>
                <a:tab algn="l" pos="6019920"/>
                <a:tab algn="l" pos="6172200"/>
                <a:tab algn="l" pos="6354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lete the following WORD eq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1143000"/>
                <a:tab algn="l" pos="1219320"/>
                <a:tab algn="l" pos="1371600"/>
                <a:tab algn="l" pos="1447920"/>
                <a:tab algn="l" pos="1600200"/>
                <a:tab algn="l" pos="2362320"/>
                <a:tab algn="l" pos="2971800"/>
                <a:tab algn="l" pos="3124080"/>
                <a:tab algn="l" pos="4419720"/>
                <a:tab algn="l" pos="6019920"/>
                <a:tab algn="l" pos="6172200"/>
                <a:tab algn="l" pos="6354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0" y="133992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1143000"/>
                <a:tab algn="l" pos="1371600"/>
                <a:tab algn="l" pos="1600200"/>
                <a:tab algn="l" pos="2362320"/>
                <a:tab algn="l" pos="2971800"/>
                <a:tab algn="l" pos="3124080"/>
                <a:tab algn="l" pos="4419720"/>
                <a:tab algn="l" pos="6019920"/>
                <a:tab algn="l" pos="6172200"/>
                <a:tab algn="l" pos="6354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a)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ID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ETAL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1143000"/>
                <a:tab algn="l" pos="1371600"/>
                <a:tab algn="l" pos="1600200"/>
                <a:tab algn="l" pos="2362320"/>
                <a:tab algn="l" pos="2971800"/>
                <a:tab algn="l" pos="3124080"/>
                <a:tab algn="l" pos="4419720"/>
                <a:tab algn="l" pos="6019920"/>
                <a:tab algn="l" pos="6172200"/>
                <a:tab algn="l" pos="6354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Line 7"/>
          <p:cNvSpPr/>
          <p:nvPr/>
        </p:nvSpPr>
        <p:spPr>
          <a:xfrm>
            <a:off x="3780000" y="285264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539640" y="213372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Give a balanced example of an acid/metal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611280" y="2637000"/>
            <a:ext cx="70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Mg +  2HCl                MgCl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   +    H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4932360" y="1268280"/>
            <a:ext cx="37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Metal salt + Hyd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714240" y="3571920"/>
            <a:ext cx="7961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rite a balanced equation for an sulfuric acid and Iron metal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Then complete exercises writing balanced symbol equations on page 1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7"/>
          <p:cNvSpPr/>
          <p:nvPr/>
        </p:nvSpPr>
        <p:spPr>
          <a:xfrm>
            <a:off x="3851280" y="501336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539640" y="4797360"/>
            <a:ext cx="70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Fe +  H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SO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4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              FeSO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4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  +    H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0" y="0"/>
            <a:ext cx="91440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Task : Find the formula for aluminium ox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tep o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rite out the ions from your table  ie  Al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and   O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0" y="2133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tep two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ke the two charges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(in other words are there the same number of (+) as (-)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l = +3  and    O = -2   </a:t>
            </a:r>
            <a:r>
              <a:rPr b="0" lang="en-NZ" sz="2400" spc="-1" strike="noStrike">
                <a:solidFill>
                  <a:srgbClr val="00ff00"/>
                </a:solidFill>
                <a:latin typeface="Arial"/>
              </a:rPr>
              <a:t>no they don’t bal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716280"/>
            <a:ext cx="7489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tep thre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dd ions to both sides until the charges bala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826920" y="4797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l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2195640" y="4797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826920" y="5084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l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2195640" y="5084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2195640" y="5373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2411280" y="5805360"/>
            <a:ext cx="0" cy="36036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1042920" y="5516640"/>
            <a:ext cx="0" cy="64908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4"/>
          <p:cNvSpPr/>
          <p:nvPr/>
        </p:nvSpPr>
        <p:spPr>
          <a:xfrm flipH="1">
            <a:off x="1042560" y="6165720"/>
            <a:ext cx="2808360" cy="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5"/>
          <p:cNvSpPr/>
          <p:nvPr/>
        </p:nvSpPr>
        <p:spPr>
          <a:xfrm>
            <a:off x="3564000" y="6165720"/>
            <a:ext cx="934920" cy="0"/>
          </a:xfrm>
          <a:prstGeom prst="line">
            <a:avLst/>
          </a:prstGeom>
          <a:ln w="4140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 flipH="1">
            <a:off x="2410920" y="5805360"/>
            <a:ext cx="1800" cy="360360"/>
          </a:xfrm>
          <a:prstGeom prst="line">
            <a:avLst/>
          </a:prstGeom>
          <a:ln w="4140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8"/>
          <p:cNvSpPr/>
          <p:nvPr/>
        </p:nvSpPr>
        <p:spPr>
          <a:xfrm>
            <a:off x="1042920" y="5805360"/>
            <a:ext cx="0" cy="216000"/>
          </a:xfrm>
          <a:prstGeom prst="line">
            <a:avLst/>
          </a:prstGeom>
          <a:ln w="4140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4643280" y="5877000"/>
            <a:ext cx="450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 Aluminium oxide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4"/>
          <p:cNvSpPr/>
          <p:nvPr/>
        </p:nvSpPr>
        <p:spPr>
          <a:xfrm>
            <a:off x="142920" y="0"/>
            <a:ext cx="87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Write out the follow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From the folowing metal list answer the questions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Li , Cu, Zn, Al, Mg , Fe, P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0" y="1714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1. List the metals in order from most reactive to least reactiv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395280" y="3521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2. ____ is a metal that reacts with cold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428760" y="414324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3. _______ is the metal that does not react with  sulfuric aci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428760" y="52149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4. ______ is the most reactive metal on the li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468360" y="294480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2357280" y="264312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Arial"/>
              </a:rPr>
              <a:t>Li, Mg, Al, Zn, Fe, Pb, 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826920" y="350028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Arial"/>
              </a:rPr>
              <a:t>Li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000080" y="40719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Arial"/>
              </a:rPr>
              <a:t>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1004760" y="51246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357120" y="60721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5. ______ is the metal that ru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3"/>
          <p:cNvSpPr/>
          <p:nvPr/>
        </p:nvSpPr>
        <p:spPr>
          <a:xfrm>
            <a:off x="933480" y="59817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ffff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Box 13"/>
          <p:cNvSpPr/>
          <p:nvPr/>
        </p:nvSpPr>
        <p:spPr>
          <a:xfrm>
            <a:off x="214200" y="26431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Most  re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Box 14"/>
          <p:cNvSpPr/>
          <p:nvPr/>
        </p:nvSpPr>
        <p:spPr>
          <a:xfrm>
            <a:off x="6215040" y="26431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least re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5"/>
          <p:cNvSpPr/>
          <p:nvPr/>
        </p:nvSpPr>
        <p:spPr>
          <a:xfrm>
            <a:off x="0" y="3234240"/>
            <a:ext cx="37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etal oxides  + 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Line 7"/>
          <p:cNvSpPr/>
          <p:nvPr/>
        </p:nvSpPr>
        <p:spPr>
          <a:xfrm>
            <a:off x="3714840" y="351936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9"/>
          <p:cNvSpPr/>
          <p:nvPr/>
        </p:nvSpPr>
        <p:spPr>
          <a:xfrm>
            <a:off x="255600" y="3778200"/>
            <a:ext cx="799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Give a balanced reaction for CaO reacting with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0"/>
          <p:cNvSpPr/>
          <p:nvPr/>
        </p:nvSpPr>
        <p:spPr>
          <a:xfrm>
            <a:off x="3286080" y="457992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4356000" y="3213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metal hydr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13"/>
          <p:cNvSpPr/>
          <p:nvPr/>
        </p:nvSpPr>
        <p:spPr>
          <a:xfrm>
            <a:off x="0" y="4365720"/>
            <a:ext cx="806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aO     +  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               Ca(OH)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9"/>
          <p:cNvSpPr/>
          <p:nvPr/>
        </p:nvSpPr>
        <p:spPr>
          <a:xfrm>
            <a:off x="0" y="836640"/>
            <a:ext cx="91440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Give a balanced reaction for sodium reacting with oxygen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13"/>
          <p:cNvSpPr/>
          <p:nvPr/>
        </p:nvSpPr>
        <p:spPr>
          <a:xfrm>
            <a:off x="611280" y="1413000"/>
            <a:ext cx="806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4Na      +   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          2Na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0"/>
          <p:cNvSpPr/>
          <p:nvPr/>
        </p:nvSpPr>
        <p:spPr>
          <a:xfrm>
            <a:off x="3459240" y="163512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9"/>
          <p:cNvSpPr/>
          <p:nvPr/>
        </p:nvSpPr>
        <p:spPr>
          <a:xfrm>
            <a:off x="255600" y="2049480"/>
            <a:ext cx="799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Give a balanced reaction for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reacting with 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10"/>
          <p:cNvSpPr/>
          <p:nvPr/>
        </p:nvSpPr>
        <p:spPr>
          <a:xfrm>
            <a:off x="3286080" y="285120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3"/>
          <p:cNvSpPr/>
          <p:nvPr/>
        </p:nvSpPr>
        <p:spPr>
          <a:xfrm>
            <a:off x="0" y="2637000"/>
            <a:ext cx="806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2Li      +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4                  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Li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   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Box 15"/>
          <p:cNvSpPr/>
          <p:nvPr/>
        </p:nvSpPr>
        <p:spPr>
          <a:xfrm>
            <a:off x="1000080" y="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Starter Summary Rea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16"/>
          <p:cNvSpPr/>
          <p:nvPr/>
        </p:nvSpPr>
        <p:spPr>
          <a:xfrm>
            <a:off x="179280" y="5013360"/>
            <a:ext cx="8964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ome metal oxides do not  d _____ in water and _____  ___ produce alkaline solu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scribe the relative concentration of H+ ions at different points of the pH sc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18"/>
          <p:cNvSpPr/>
          <p:nvPr/>
        </p:nvSpPr>
        <p:spPr>
          <a:xfrm>
            <a:off x="3927240" y="50133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sso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20"/>
          <p:cNvSpPr/>
          <p:nvPr/>
        </p:nvSpPr>
        <p:spPr>
          <a:xfrm>
            <a:off x="6948360" y="4941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ill   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5"/>
          <p:cNvSpPr/>
          <p:nvPr/>
        </p:nvSpPr>
        <p:spPr>
          <a:xfrm>
            <a:off x="0" y="786240"/>
            <a:ext cx="37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ID  +  CARBONAT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Line 7"/>
          <p:cNvSpPr/>
          <p:nvPr/>
        </p:nvSpPr>
        <p:spPr>
          <a:xfrm>
            <a:off x="3714840" y="107172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9"/>
          <p:cNvSpPr/>
          <p:nvPr/>
        </p:nvSpPr>
        <p:spPr>
          <a:xfrm>
            <a:off x="755640" y="1341360"/>
            <a:ext cx="79930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Give a balanced reaction for HCl reacting with Ca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Line 10"/>
          <p:cNvSpPr/>
          <p:nvPr/>
        </p:nvSpPr>
        <p:spPr>
          <a:xfrm>
            <a:off x="3786120" y="214308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12"/>
          <p:cNvSpPr/>
          <p:nvPr/>
        </p:nvSpPr>
        <p:spPr>
          <a:xfrm>
            <a:off x="4429080" y="7858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alt + carbon dioxide +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500040" y="1928880"/>
            <a:ext cx="806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a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+   2HCl                CaCl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+   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+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9"/>
          <p:cNvSpPr/>
          <p:nvPr/>
        </p:nvSpPr>
        <p:spPr>
          <a:xfrm>
            <a:off x="0" y="292896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Give a balanced reaction for HCl reacting with NaH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(sodium bicarbonat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395280" y="3873600"/>
            <a:ext cx="806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NaH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+   HCl             NaCl   +   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+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Line 10"/>
          <p:cNvSpPr/>
          <p:nvPr/>
        </p:nvSpPr>
        <p:spPr>
          <a:xfrm>
            <a:off x="3753000" y="408780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579600" y="4857840"/>
            <a:ext cx="7993080" cy="15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Give a balanced reaction for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reacting with Zn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Line 10"/>
          <p:cNvSpPr/>
          <p:nvPr/>
        </p:nvSpPr>
        <p:spPr>
          <a:xfrm>
            <a:off x="3610080" y="565956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324000" y="5445000"/>
            <a:ext cx="806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Zn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+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4              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Zn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4 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   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+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15"/>
          <p:cNvSpPr/>
          <p:nvPr/>
        </p:nvSpPr>
        <p:spPr>
          <a:xfrm>
            <a:off x="1000080" y="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Acid Carbonate Rea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16"/>
          <p:cNvSpPr/>
          <p:nvPr/>
        </p:nvSpPr>
        <p:spPr>
          <a:xfrm>
            <a:off x="0" y="6165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omplete the experiment on page 136  then ques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Homework for test on Fri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heck out the 1.4 Achievement standard page 103 -104 (yellow lab boo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Look at Specific learning out comes page 104 -105 make sure you use to make headings for study notes and practise th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Read chapter 15 Basic Chemistry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(NCEA level 1 Science text)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complete all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Read Chapter 16 acids and bases and complete all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Read Chapter 17 metals and complete all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Allo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Remember alloys are mixtures of metals and other sub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mportant alloys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teel made of carbon and iron – used in many industries including car bo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Brass made of copper and zinc – used in plumbing fi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older made of tin and lead – used in making circu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lloys are made to change the physical property of the metal eg solder melts lower than lead or t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5" dur="indefinite" restart="never" nodeType="tmRoot">
          <p:childTnLst>
            <p:seq>
              <p:cTn id="1506" dur="indefinite" nodeType="mainSeq">
                <p:childTnLst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0" y="191628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Read page 63 in MW to find why metals conduct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0" y="2349360"/>
          <a:ext cx="6767640" cy="25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6767640" cy="25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Text Box 4"/>
          <p:cNvSpPr/>
          <p:nvPr/>
        </p:nvSpPr>
        <p:spPr>
          <a:xfrm>
            <a:off x="395280" y="48690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 sea of negative electrons in metals allows electrical current to flow through the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324000" y="57340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se electrons also account for the shiny appearance of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6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Why do metals conduct electricit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7" name="Object 2"/>
          <p:cNvGraphicFramePr/>
          <p:nvPr/>
        </p:nvGraphicFramePr>
        <p:xfrm>
          <a:off x="1692360" y="1773360"/>
          <a:ext cx="546732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73360"/>
                    <a:ext cx="546732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Rectangle 3"/>
          <p:cNvSpPr/>
          <p:nvPr/>
        </p:nvSpPr>
        <p:spPr>
          <a:xfrm>
            <a:off x="254160" y="4107960"/>
            <a:ext cx="893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 metallic bonds do not act in a particular direction,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ws of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positive ions can slide over one another easi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allows the metal to be bent or shaped. This structure all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to be bent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lle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or made into wires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ct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900000" y="26028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5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Why most metals can be bent or shap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Neutralis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6756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Cl   +    NaOH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   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   +  Na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4"/>
          <p:cNvSpPr/>
          <p:nvPr/>
        </p:nvSpPr>
        <p:spPr>
          <a:xfrm>
            <a:off x="2916360" y="1557360"/>
            <a:ext cx="647640" cy="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5"/>
          <p:cNvSpPr/>
          <p:nvPr/>
        </p:nvSpPr>
        <p:spPr>
          <a:xfrm>
            <a:off x="0" y="-27360"/>
            <a:ext cx="914400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efre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trong bases eg _____ have a pH of ___ and will turn universal indicator _____ common lab bases are potassium hydroxide (KOH), sodium hydroxide (NaOH) and ammonium hydroxide (N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mmon household bases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Box 2"/>
          <p:cNvSpPr/>
          <p:nvPr/>
        </p:nvSpPr>
        <p:spPr>
          <a:xfrm>
            <a:off x="3214800" y="3357720"/>
            <a:ext cx="32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ccff"/>
                </a:solidFill>
                <a:latin typeface="Arial"/>
              </a:rPr>
              <a:t>Window clea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Box 3"/>
          <p:cNvSpPr/>
          <p:nvPr/>
        </p:nvSpPr>
        <p:spPr>
          <a:xfrm>
            <a:off x="3214800" y="3786120"/>
            <a:ext cx="32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ccff"/>
                </a:solidFill>
                <a:latin typeface="Arial"/>
              </a:rPr>
              <a:t>Oven clea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Box 4"/>
          <p:cNvSpPr/>
          <p:nvPr/>
        </p:nvSpPr>
        <p:spPr>
          <a:xfrm>
            <a:off x="3286080" y="421488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ccff"/>
                </a:solidFill>
                <a:latin typeface="Arial"/>
              </a:rPr>
              <a:t>Ji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5"/>
          <p:cNvSpPr/>
          <p:nvPr/>
        </p:nvSpPr>
        <p:spPr>
          <a:xfrm>
            <a:off x="3214800" y="785880"/>
            <a:ext cx="96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K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6858000" y="85716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4429080" y="128592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pur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5"/>
          <p:cNvSpPr/>
          <p:nvPr/>
        </p:nvSpPr>
        <p:spPr>
          <a:xfrm>
            <a:off x="611280" y="350640"/>
            <a:ext cx="820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niversal indicator goes ____ with a strong acid and the pH will be around 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eutral solutions (eg pure water) go _____ with universal indicator and a pH of around 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trong bases  go _______ with universal indicator and have a pH of around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0" y="0"/>
            <a:ext cx="914400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You try this one write out each step : Find the formula for magnesium nit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tep o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rite out the ions from your t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ff00"/>
                </a:solidFill>
                <a:latin typeface="Arial"/>
              </a:rPr>
              <a:t>ie  Mg</a:t>
            </a:r>
            <a:r>
              <a:rPr b="0" lang="en-NZ" sz="2400" spc="-1" strike="noStrike" baseline="30000">
                <a:solidFill>
                  <a:srgbClr val="00ff00"/>
                </a:solidFill>
                <a:latin typeface="Arial"/>
              </a:rPr>
              <a:t>2+</a:t>
            </a:r>
            <a:r>
              <a:rPr b="0" lang="en-NZ" sz="2400" spc="-1" strike="noStrike">
                <a:solidFill>
                  <a:srgbClr val="00ff00"/>
                </a:solidFill>
                <a:latin typeface="Arial"/>
              </a:rPr>
              <a:t>    and   NO</a:t>
            </a:r>
            <a:r>
              <a:rPr b="0" lang="en-NZ" sz="24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0" lang="en-NZ" sz="2400" spc="-1" strike="noStrike" baseline="30000">
                <a:solidFill>
                  <a:srgbClr val="00ff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2643120"/>
            <a:ext cx="9144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tep two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ke the two charges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(in other words are there the same number of (+) as (-)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g = 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+2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nd    N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-1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ff00"/>
                </a:solidFill>
                <a:latin typeface="Arial"/>
              </a:rPr>
              <a:t>no they don’t bal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214200" y="4286160"/>
            <a:ext cx="7489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tep thre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dd ions to both sides until the charges bala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26920" y="5254560"/>
            <a:ext cx="9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g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2214720" y="5743440"/>
            <a:ext cx="109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2411280" y="6262560"/>
            <a:ext cx="0" cy="36036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1042920" y="5973840"/>
            <a:ext cx="0" cy="64908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 flipH="1">
            <a:off x="1042560" y="6622920"/>
            <a:ext cx="2808360" cy="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3564000" y="6622920"/>
            <a:ext cx="934920" cy="0"/>
          </a:xfrm>
          <a:prstGeom prst="line">
            <a:avLst/>
          </a:prstGeom>
          <a:ln w="4140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7"/>
          <p:cNvSpPr/>
          <p:nvPr/>
        </p:nvSpPr>
        <p:spPr>
          <a:xfrm flipH="1">
            <a:off x="2410920" y="6262560"/>
            <a:ext cx="1800" cy="360360"/>
          </a:xfrm>
          <a:prstGeom prst="line">
            <a:avLst/>
          </a:prstGeom>
          <a:ln w="4140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8"/>
          <p:cNvSpPr/>
          <p:nvPr/>
        </p:nvSpPr>
        <p:spPr>
          <a:xfrm>
            <a:off x="1042920" y="6262560"/>
            <a:ext cx="0" cy="216000"/>
          </a:xfrm>
          <a:prstGeom prst="line">
            <a:avLst/>
          </a:prstGeom>
          <a:ln w="4140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4643280" y="6334200"/>
            <a:ext cx="178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Mg(NO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2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2214720" y="5243400"/>
            <a:ext cx="109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17"/>
          <p:cNvSpPr/>
          <p:nvPr/>
        </p:nvSpPr>
        <p:spPr>
          <a:xfrm>
            <a:off x="4572000" y="538632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Then write fo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5"/>
          <p:cNvSpPr/>
          <p:nvPr/>
        </p:nvSpPr>
        <p:spPr>
          <a:xfrm>
            <a:off x="0" y="21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efre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trong acids eg _____ have a pH of ___ and will turn universal indicator 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Weak acids eg Lemon   ___ have a pH of ___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nd will turn universal indicator 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s of common household acids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3214800" y="785880"/>
            <a:ext cx="9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H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6643800" y="857160"/>
            <a:ext cx="9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6143760" y="1285920"/>
            <a:ext cx="9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99"/>
                </a:solidFill>
                <a:latin typeface="Comic Sans MS"/>
                <a:ea typeface="Times New Roman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4429080" y="2143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ju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7786800" y="214308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4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6715080" y="257184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o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9"/>
          <p:cNvSpPr/>
          <p:nvPr/>
        </p:nvSpPr>
        <p:spPr>
          <a:xfrm>
            <a:off x="3786120" y="428616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vine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10"/>
          <p:cNvSpPr/>
          <p:nvPr/>
        </p:nvSpPr>
        <p:spPr>
          <a:xfrm>
            <a:off x="3714840" y="464328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tarta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11"/>
          <p:cNvSpPr/>
          <p:nvPr/>
        </p:nvSpPr>
        <p:spPr>
          <a:xfrm>
            <a:off x="3929040" y="507204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cit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35"/>
          <p:cNvSpPr/>
          <p:nvPr/>
        </p:nvSpPr>
        <p:spPr>
          <a:xfrm>
            <a:off x="0" y="0"/>
            <a:ext cx="91440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86d1ec"/>
                </a:solidFill>
                <a:latin typeface="Tahoma"/>
              </a:rPr>
              <a:t>Experiment finding the pH of substances -</a:t>
            </a:r>
            <a:r>
              <a:rPr b="1" lang="en-N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Draw the table belo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Place 2 cms of water in each tube (then two drops of the test solu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ff33"/>
                </a:solidFill>
                <a:latin typeface="Tahoma"/>
              </a:rPr>
              <a:t>3 drops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of universal indicator in them – 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write then fill in your ch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0" y="2960640"/>
          <a:ext cx="9144000" cy="3897360"/>
        </p:xfrm>
        <a:graphic>
          <a:graphicData uri="http://schemas.openxmlformats.org/drawingml/2006/table">
            <a:tbl>
              <a:tblPr/>
              <a:tblGrid>
                <a:gridCol w="2946240"/>
                <a:gridCol w="2803680"/>
                <a:gridCol w="3394080"/>
              </a:tblGrid>
              <a:tr h="42696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tion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NZ" sz="28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Colour of solu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5" name="Text Box 101"/>
          <p:cNvSpPr/>
          <p:nvPr/>
        </p:nvSpPr>
        <p:spPr>
          <a:xfrm>
            <a:off x="2987640" y="2924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99ff33"/>
                </a:solidFill>
                <a:latin typeface="Arial"/>
              </a:rPr>
              <a:t>pH of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1" dur="indefinite" restart="never" nodeType="tmRoot">
          <p:childTnLst>
            <p:seq>
              <p:cTn id="1642" dur="indefinite" nodeType="mainSeq">
                <p:childTnLst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35"/>
          <p:cNvSpPr/>
          <p:nvPr/>
        </p:nvSpPr>
        <p:spPr>
          <a:xfrm>
            <a:off x="0" y="0"/>
            <a:ext cx="9144000" cy="68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86d1ec"/>
                </a:solidFill>
                <a:latin typeface="Tahoma"/>
              </a:rPr>
              <a:t>Experiment finding the pH of substances -</a:t>
            </a:r>
            <a:r>
              <a:rPr b="1" lang="en-N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Draw the table belo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Place 2 cms of each of the solutions below in a test tube then pl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3 drops of universal indicator in them – 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write the colour in the ch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Baking soda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bl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mi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lemon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oft soap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Jif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37"/>
          <p:cNvSpPr/>
          <p:nvPr/>
        </p:nvSpPr>
        <p:spPr>
          <a:xfrm>
            <a:off x="2482920" y="330516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38"/>
          <p:cNvSpPr/>
          <p:nvPr/>
        </p:nvSpPr>
        <p:spPr>
          <a:xfrm>
            <a:off x="2843280" y="35211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          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pH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39"/>
          <p:cNvSpPr/>
          <p:nvPr/>
        </p:nvSpPr>
        <p:spPr>
          <a:xfrm>
            <a:off x="2627280" y="4097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pH  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40"/>
          <p:cNvSpPr/>
          <p:nvPr/>
        </p:nvSpPr>
        <p:spPr>
          <a:xfrm>
            <a:off x="3635280" y="46022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pH  3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41"/>
          <p:cNvSpPr/>
          <p:nvPr/>
        </p:nvSpPr>
        <p:spPr>
          <a:xfrm>
            <a:off x="3635280" y="51786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pH 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42"/>
          <p:cNvSpPr/>
          <p:nvPr/>
        </p:nvSpPr>
        <p:spPr>
          <a:xfrm>
            <a:off x="3419640" y="57546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pH 10 -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43"/>
          <p:cNvSpPr/>
          <p:nvPr/>
        </p:nvSpPr>
        <p:spPr>
          <a:xfrm>
            <a:off x="3348000" y="623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pH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45"/>
          <p:cNvSpPr/>
          <p:nvPr/>
        </p:nvSpPr>
        <p:spPr>
          <a:xfrm>
            <a:off x="6372360" y="34639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46"/>
          <p:cNvSpPr/>
          <p:nvPr/>
        </p:nvSpPr>
        <p:spPr>
          <a:xfrm>
            <a:off x="5867280" y="3968640"/>
            <a:ext cx="2952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                     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violet/pur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48"/>
          <p:cNvSpPr/>
          <p:nvPr/>
        </p:nvSpPr>
        <p:spPr>
          <a:xfrm>
            <a:off x="6586200" y="623736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50"/>
          <p:cNvSpPr/>
          <p:nvPr/>
        </p:nvSpPr>
        <p:spPr>
          <a:xfrm>
            <a:off x="6440040" y="510552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gr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52"/>
          <p:cNvSpPr/>
          <p:nvPr/>
        </p:nvSpPr>
        <p:spPr>
          <a:xfrm>
            <a:off x="6443640" y="582444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vio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54"/>
          <p:cNvSpPr/>
          <p:nvPr/>
        </p:nvSpPr>
        <p:spPr>
          <a:xfrm>
            <a:off x="6586200" y="452916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3227400" y="2781360"/>
          <a:ext cx="5916600" cy="3897360"/>
        </p:xfrm>
        <a:graphic>
          <a:graphicData uri="http://schemas.openxmlformats.org/drawingml/2006/table">
            <a:tbl>
              <a:tblPr/>
              <a:tblGrid>
                <a:gridCol w="2676600"/>
                <a:gridCol w="3240000"/>
              </a:tblGrid>
              <a:tr h="42696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NZ" sz="28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Colour of solu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1" name="Text Box 101"/>
          <p:cNvSpPr/>
          <p:nvPr/>
        </p:nvSpPr>
        <p:spPr>
          <a:xfrm>
            <a:off x="3276720" y="274464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99ff33"/>
                </a:solidFill>
                <a:latin typeface="Arial"/>
              </a:rPr>
              <a:t>pH of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2"/>
          <p:cNvSpPr/>
          <p:nvPr/>
        </p:nvSpPr>
        <p:spPr>
          <a:xfrm>
            <a:off x="285840" y="26028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ffff00"/>
                </a:solidFill>
                <a:uFillTx/>
                <a:latin typeface="Arial"/>
              </a:rPr>
              <a:t>Strong and Weak Acids- Experime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"/>
          <p:cNvSpPr/>
          <p:nvPr/>
        </p:nvSpPr>
        <p:spPr>
          <a:xfrm>
            <a:off x="395280" y="105264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Place 2cms of each of the 3 acids in 3 test tubes in a test tube rack – copy this table into your book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- use a ruler to draw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28"/>
          <p:cNvSpPr/>
          <p:nvPr/>
        </p:nvSpPr>
        <p:spPr>
          <a:xfrm>
            <a:off x="7143840" y="539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0" y="2708280"/>
          <a:ext cx="8856720" cy="2759040"/>
        </p:xfrm>
        <a:graphic>
          <a:graphicData uri="http://schemas.openxmlformats.org/drawingml/2006/table">
            <a:tbl>
              <a:tblPr/>
              <a:tblGrid>
                <a:gridCol w="2768760"/>
                <a:gridCol w="3279600"/>
                <a:gridCol w="280836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ur with Universal indica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ction with Mg me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lfur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ydrochlor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hanoic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9" dur="indefinite" restart="never" nodeType="tmRoot">
          <p:childTnLst>
            <p:seq>
              <p:cTn id="1750" dur="indefinite" nodeType="mainSeq">
                <p:childTnLst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900000" y="26028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ffff00"/>
                </a:solidFill>
                <a:uFillTx/>
                <a:latin typeface="Arial"/>
              </a:rPr>
              <a:t>Acid Reactions Experime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395280" y="105264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Place 2cms of each of the 3 acids in 3 test tubes in a test tube rack – copy this table into your book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- use a ruler to draw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28"/>
          <p:cNvSpPr/>
          <p:nvPr/>
        </p:nvSpPr>
        <p:spPr>
          <a:xfrm>
            <a:off x="7143840" y="539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0" y="2852640"/>
          <a:ext cx="8856720" cy="3465720"/>
        </p:xfrm>
        <a:graphic>
          <a:graphicData uri="http://schemas.openxmlformats.org/drawingml/2006/table">
            <a:tbl>
              <a:tblPr/>
              <a:tblGrid>
                <a:gridCol w="2768760"/>
                <a:gridCol w="6087960"/>
              </a:tblGrid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Observation with calcium carbonat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lfur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ydrochlor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hanoic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5" dur="indefinite" restart="never" nodeType="tmRoot">
          <p:childTnLst>
            <p:seq>
              <p:cTn id="1756" dur="indefinite" nodeType="mainSeq">
                <p:childTnLst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1"/>
          <p:cNvSpPr/>
          <p:nvPr/>
        </p:nvSpPr>
        <p:spPr>
          <a:xfrm>
            <a:off x="0" y="687600"/>
            <a:ext cx="864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ing the white boards answer the ques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y being the first group to neatly show the correct 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ive the chemical symbols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ive the type and number of atoms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2"/>
          <p:cNvSpPr/>
          <p:nvPr/>
        </p:nvSpPr>
        <p:spPr>
          <a:xfrm>
            <a:off x="334800" y="278604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5896080" y="285768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arb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3867840" y="34290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3697920" y="285768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otas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6051600" y="342900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el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2236320" y="3500280"/>
            <a:ext cx="8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2075760" y="27860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9"/>
          <p:cNvSpPr/>
          <p:nvPr/>
        </p:nvSpPr>
        <p:spPr>
          <a:xfrm>
            <a:off x="412200" y="35002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lf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10"/>
          <p:cNvSpPr/>
          <p:nvPr/>
        </p:nvSpPr>
        <p:spPr>
          <a:xfrm>
            <a:off x="671760" y="50133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a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1"/>
          <p:cNvSpPr/>
          <p:nvPr/>
        </p:nvSpPr>
        <p:spPr>
          <a:xfrm>
            <a:off x="3976200" y="5084640"/>
            <a:ext cx="120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aN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12"/>
          <p:cNvSpPr/>
          <p:nvPr/>
        </p:nvSpPr>
        <p:spPr>
          <a:xfrm>
            <a:off x="445680" y="5870520"/>
            <a:ext cx="102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Rectangle 13"/>
          <p:cNvSpPr/>
          <p:nvPr/>
        </p:nvSpPr>
        <p:spPr>
          <a:xfrm>
            <a:off x="2388960" y="5084640"/>
            <a:ext cx="110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bC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5628600" y="5084640"/>
            <a:ext cx="125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2252160" y="5870520"/>
            <a:ext cx="140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l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(S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)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16"/>
          <p:cNvSpPr/>
          <p:nvPr/>
        </p:nvSpPr>
        <p:spPr>
          <a:xfrm>
            <a:off x="4113360" y="5799240"/>
            <a:ext cx="300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Comic Sans MS"/>
              </a:rPr>
              <a:t>CH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en-NZ" sz="2800" spc="-1" strike="noStrike">
                <a:solidFill>
                  <a:srgbClr val="ffff00"/>
                </a:solidFill>
                <a:latin typeface="Comic Sans MS"/>
              </a:rPr>
              <a:t>CO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 Box 19"/>
          <p:cNvSpPr/>
          <p:nvPr/>
        </p:nvSpPr>
        <p:spPr>
          <a:xfrm>
            <a:off x="0" y="0"/>
            <a:ext cx="73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00"/>
                </a:solidFill>
                <a:latin typeface="Arial"/>
              </a:rPr>
              <a:t>What can you rememb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1" dur="indefinite" restart="never" nodeType="tmRoot">
          <p:childTnLst>
            <p:seq>
              <p:cTn id="1762" dur="indefinite" nodeType="mainSeq">
                <p:childTnLst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tarter Task : Write the chemical formula for Calcium hydroxide in your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2202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tep on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rite out the two ions from the chart with their charge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2852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tep two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ke the two charges balance by adding 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79280" y="4581360"/>
            <a:ext cx="748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tep thre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rite the finished formula without the 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714240" y="785880"/>
            <a:ext cx="671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You can </a:t>
            </a:r>
            <a:r>
              <a:rPr b="0" lang="en-NZ" sz="4000" spc="-1" strike="noStrike">
                <a:solidFill>
                  <a:srgbClr val="ffff00"/>
                </a:solidFill>
                <a:latin typeface="Arial"/>
              </a:rPr>
              <a:t>quietly</a:t>
            </a: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 read the following 6 slides or you can copy them d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20:45:45Z</dcterms:created>
  <dc:creator>Dave Macdonald</dc:creator>
  <dc:description/>
  <dc:language>en-US</dc:language>
  <cp:lastModifiedBy>David</cp:lastModifiedBy>
  <dcterms:modified xsi:type="dcterms:W3CDTF">2009-05-25T07:50:02Z</dcterms:modified>
  <cp:revision>137</cp:revision>
  <dc:subject/>
  <dc:title>Slide 1</dc:title>
</cp:coreProperties>
</file>